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D8-772C-4810-9626-C73EA2C6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FA2-E325-4516-B8EE-558CECE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195-9A2D-4415-9DF2-87A9B01B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18E-F13A-4E56-B26E-AC1626AA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AB92-2835-4442-8080-4FE48F2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E6C-18A9-4F5F-B1BA-84F1628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E4C-A7F6-4359-BD6A-D35E1D5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EE43-671B-4945-8AB6-65D709F5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93B-07B6-4A14-B441-3B68103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E106-199C-45B2-B8BF-3B09DA36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C528-2D1D-4AA6-956C-32FC81F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DF3-5447-43B4-B508-4FC5D4CA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FE96-C53F-4D39-AF93-91C3118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AC5D-42D2-4FAE-A2D7-46BB2F6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6BC-A0F9-42E1-85FD-2B72BCA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8044-818E-4E9E-9446-73CCEDD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E614-B52B-4274-B4A1-26C63568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4640-C96C-4502-AD7B-E6A62981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29A6-7FAA-4ADB-8AD7-97698E8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76AA-55CC-4AF9-BFDF-9CA2833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2191-5148-4EAE-8E37-05EF7F25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8F14-92DB-42DE-9514-1CF9CDAE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256-D360-4A19-8C3E-1E502043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5CED-7941-484E-8CEA-768BDC29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82CC-AAF8-49A8-9C75-CBAA5BF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88CA-3BD8-4BC2-99DF-0396F7C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C194-E1DA-48CD-BEEC-C5A699E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6F81-72A9-414E-8899-3B78AB6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CD11-D0C2-40AB-8F5A-323D99E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059B-FF09-4EA0-83B1-FE1EF3E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4461-AEA7-42FD-8AA9-E7B9C40A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7679-DB75-4D80-A8D0-DB81665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6BEA-0327-4A55-B05E-6457FBAB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006-74B7-47E5-9134-0AB85375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25C7-CCD1-4222-977D-AD4DC9B8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219E-F11A-4DBA-95C6-C284A26F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DCB7-3597-4C71-B1FA-910F9115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3D53-ACDF-4063-BA62-2DE0B6F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909D-420A-4535-8EBC-4F42979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D703-3A8D-4CDC-AC9B-A2C08EE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E910-1CC3-43F5-8158-7C76CD6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1374-B188-431E-BC9D-CE1ABB2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B192-8E6B-4F15-AA4C-02D2B291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605BC-2032-4F68-A9D5-5226660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189-F331-4EA0-823B-23ABC54F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D3C5-FED4-4FF8-9E63-D7907E17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F758-C1FA-48FA-A038-71C35D1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9881-7E64-4EA2-97AE-50ED860D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1938-22F4-4055-BBF7-523BCAA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5ABC-3B72-419C-9818-E040A15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16FB-96A7-4E14-9511-464D900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033D-4D65-4FAA-A26C-E3E4AC2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E625-7729-498F-BBE0-BE24572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8184-8ABE-4AF4-9917-EB4D95F0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EFDF2-F28A-4D7E-AAFF-4E715069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148-0699-4270-8670-F697F6ED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7662-9359-414E-86CC-09A93351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1A9E-F982-43D7-9282-8027FC2B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990AF-2FBB-4083-8F3B-73EADEE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F47A-B83E-4655-B177-39B49652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04C7-BFD3-450A-B289-B0151B8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D23D-01F6-4243-8035-0BC632A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065A-7266-463E-8382-DFEF743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8127-DCF8-4835-ABE8-38509FE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53BF-21EF-45C2-B481-CE35EDF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715E-03AB-4658-915C-B7280AF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783-B51F-43EE-8453-7C68A53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75D0-C5EB-4971-9C40-4F6C308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4056-04D9-4737-B473-1F78855B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9F0FB-0E41-4CD7-A717-3AEC4BE0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0F57-A002-45F9-818E-D4BB3429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2A6C-AA86-4C33-A639-C48D8F1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9F2E-42CD-46C6-AE22-55A922B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0C5FC-6FBA-4A09-BEDD-0251775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4E7DF-8840-4303-BA27-9C6E3C43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A3B62-2A39-45F3-9CAC-0DE6930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72AA-944B-4964-8D74-5879EAD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1A6-CEC3-4AEE-A01F-320D105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B5BC-5B61-47FD-86D8-AAA32F4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1866-2820-4806-BF7F-1425592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65418-B35C-4FCB-887B-D0334C8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98B4-CCBC-4FA9-82E5-E0A59D68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05E53-AF78-445B-ADCF-6DD9DC5F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E20-DD67-4C6F-9D1D-3C12475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B5A0-F3B5-41C1-A02A-07BFD149FEBA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B3D-CCDF-4D68-A1C4-8F21236BF767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D8F7-C59B-4384-8EF1-9692319B34F0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C44-381C-4F4B-8927-C70562FD1B1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EFC-0635-442A-AFC5-65ECD460882C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417-2879-4BDC-B709-5A21F3CA4C2A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075-B010-4BBC-8419-E9C14C4A1637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39D-C241-40C4-872D-69CEA8CB77A7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D991-164D-4CAB-9BC1-FAD90F196D87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2E08-5927-46F6-AED7-FFAFA88DC74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287-4595-4316-B37E-A1C73598B5B2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C8D-F022-4A84-AA95-7DEF3DC7F14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F47-642E-4CAA-8251-6489350ED62A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31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4C9-32C6-4705-8B69-CACA360280E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210.117.202.146/app/wu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제목 1" descr=""/>
          <p:cNvPicPr/>
          <p:nvPr/>
        </p:nvPicPr>
        <p:blipFill>
          <a:blip r:embed="rId1"/>
          <a:stretch/>
        </p:blipFill>
        <p:spPr>
          <a:xfrm>
            <a:off x="633240" y="2567160"/>
            <a:ext cx="778536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86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등록팀 로그인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4" name="바닥글 개체 틀 3"/>
          <p:cNvSpPr/>
          <p:nvPr/>
        </p:nvSpPr>
        <p:spPr>
          <a:xfrm>
            <a:off x="7308720" y="6381720"/>
            <a:ext cx="169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슬라이드 번호 개체 틀 4"/>
          <p:cNvSpPr/>
          <p:nvPr/>
        </p:nvSpPr>
        <p:spPr>
          <a:xfrm>
            <a:off x="3438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436-CF0F-4853-BF6D-C846ECEDA2DC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55" name="바닥글 개체 틀 3"/>
          <p:cNvSpPr/>
          <p:nvPr/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19A-9485-49E7-AA7D-FC426D7BB9BC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832520" cy="4808520"/>
          </a:xfrm>
          <a:prstGeom prst="rect">
            <a:avLst/>
          </a:prstGeom>
          <a:ln w="0">
            <a:noFill/>
          </a:ln>
        </p:spPr>
      </p:pic>
      <p:sp>
        <p:nvSpPr>
          <p:cNvPr id="358" name="위쪽 화살표 6"/>
          <p:cNvSpPr/>
          <p:nvPr/>
        </p:nvSpPr>
        <p:spPr>
          <a:xfrm>
            <a:off x="3851280" y="4149720"/>
            <a:ext cx="433440" cy="142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0c435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9" name="모서리가 둥근 직사각형 7" descr=""/>
          <p:cNvPicPr/>
          <p:nvPr/>
        </p:nvPicPr>
        <p:blipFill>
          <a:blip r:embed="rId3"/>
          <a:stretch/>
        </p:blipFill>
        <p:spPr>
          <a:xfrm>
            <a:off x="3255840" y="4346640"/>
            <a:ext cx="1839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61" name="바닥글 개체 틀 3"/>
          <p:cNvSpPr/>
          <p:nvPr/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ECE-CB87-46C9-9E0E-E4CF62ADF56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991280" cy="4737240"/>
          </a:xfrm>
          <a:prstGeom prst="rect">
            <a:avLst/>
          </a:prstGeom>
          <a:ln w="0">
            <a:noFill/>
          </a:ln>
        </p:spPr>
      </p:pic>
      <p:grpSp>
        <p:nvGrpSpPr>
          <p:cNvPr id="364" name="오른쪽 중괄호 6"/>
          <p:cNvGrpSpPr/>
          <p:nvPr/>
        </p:nvGrpSpPr>
        <p:grpSpPr>
          <a:xfrm>
            <a:off x="4681440" y="3608280"/>
            <a:ext cx="341280" cy="1390680"/>
            <a:chOff x="4681440" y="3608280"/>
            <a:chExt cx="341280" cy="1390680"/>
          </a:xfrm>
        </p:grpSpPr>
        <p:pic>
          <p:nvPicPr>
            <p:cNvPr id="365" name="오른쪽 중괄호 6" descr=""/>
            <p:cNvPicPr/>
            <p:nvPr/>
          </p:nvPicPr>
          <p:blipFill>
            <a:blip r:embed="rId3"/>
            <a:stretch/>
          </p:blipFill>
          <p:spPr>
            <a:xfrm>
              <a:off x="4681440" y="3608280"/>
              <a:ext cx="3412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6360" y="3646440"/>
              <a:ext cx="255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367" name="모서리가 둥근 직사각형 7" descr=""/>
          <p:cNvPicPr/>
          <p:nvPr/>
        </p:nvPicPr>
        <p:blipFill>
          <a:blip r:embed="rId4"/>
          <a:stretch/>
        </p:blipFill>
        <p:spPr>
          <a:xfrm>
            <a:off x="4986360" y="3700440"/>
            <a:ext cx="2341440" cy="968400"/>
          </a:xfrm>
          <a:prstGeom prst="rect">
            <a:avLst/>
          </a:prstGeom>
          <a:ln w="0">
            <a:noFill/>
          </a:ln>
        </p:spPr>
      </p:pic>
      <p:sp>
        <p:nvSpPr>
          <p:cNvPr id="368" name="위쪽 화살표 8"/>
          <p:cNvSpPr/>
          <p:nvPr/>
        </p:nvSpPr>
        <p:spPr>
          <a:xfrm>
            <a:off x="3348000" y="5084640"/>
            <a:ext cx="432000" cy="289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직선 연결선 10" descr=""/>
          <p:cNvPicPr/>
          <p:nvPr/>
        </p:nvPicPr>
        <p:blipFill>
          <a:blip r:embed="rId5"/>
          <a:stretch/>
        </p:blipFill>
        <p:spPr>
          <a:xfrm>
            <a:off x="665280" y="3236760"/>
            <a:ext cx="2747880" cy="189000"/>
          </a:xfrm>
          <a:prstGeom prst="rect">
            <a:avLst/>
          </a:prstGeom>
          <a:ln w="0">
            <a:noFill/>
          </a:ln>
        </p:spPr>
      </p:pic>
      <p:sp>
        <p:nvSpPr>
          <p:cNvPr id="370" name="위쪽 화살표 11"/>
          <p:cNvSpPr/>
          <p:nvPr/>
        </p:nvSpPr>
        <p:spPr>
          <a:xfrm>
            <a:off x="1619280" y="3429000"/>
            <a:ext cx="720720" cy="71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71" name="모서리가 둥근 직사각형 12" descr=""/>
          <p:cNvPicPr/>
          <p:nvPr/>
        </p:nvPicPr>
        <p:blipFill>
          <a:blip r:embed="rId6"/>
          <a:stretch/>
        </p:blipFill>
        <p:spPr>
          <a:xfrm>
            <a:off x="738360" y="3627360"/>
            <a:ext cx="25542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73" name="바닥글 개체 틀 3"/>
          <p:cNvSpPr/>
          <p:nvPr/>
        </p:nvSpPr>
        <p:spPr>
          <a:xfrm>
            <a:off x="7164360" y="6381720"/>
            <a:ext cx="18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355-2EF8-4B85-A323-F984C0DBB0A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991280" cy="4626000"/>
          </a:xfrm>
          <a:prstGeom prst="rect">
            <a:avLst/>
          </a:prstGeom>
          <a:ln w="0">
            <a:noFill/>
          </a:ln>
        </p:spPr>
      </p:pic>
      <p:pic>
        <p:nvPicPr>
          <p:cNvPr id="376" name="직선 연결선 7" descr=""/>
          <p:cNvPicPr/>
          <p:nvPr/>
        </p:nvPicPr>
        <p:blipFill>
          <a:blip r:embed="rId3"/>
          <a:stretch/>
        </p:blipFill>
        <p:spPr>
          <a:xfrm>
            <a:off x="738360" y="3114720"/>
            <a:ext cx="7448400" cy="189000"/>
          </a:xfrm>
          <a:prstGeom prst="rect">
            <a:avLst/>
          </a:prstGeom>
          <a:ln w="0">
            <a:noFill/>
          </a:ln>
        </p:spPr>
      </p:pic>
      <p:pic>
        <p:nvPicPr>
          <p:cNvPr id="377" name="모서리가 둥근 직사각형 8" descr=""/>
          <p:cNvPicPr/>
          <p:nvPr/>
        </p:nvPicPr>
        <p:blipFill>
          <a:blip r:embed="rId4"/>
          <a:stretch/>
        </p:blipFill>
        <p:spPr>
          <a:xfrm>
            <a:off x="1243080" y="3481560"/>
            <a:ext cx="6443640" cy="614160"/>
          </a:xfrm>
          <a:prstGeom prst="rect">
            <a:avLst/>
          </a:prstGeom>
          <a:ln w="0">
            <a:noFill/>
          </a:ln>
        </p:spPr>
      </p:pic>
      <p:sp>
        <p:nvSpPr>
          <p:cNvPr id="378" name="아래쪽 화살표 9"/>
          <p:cNvSpPr/>
          <p:nvPr/>
        </p:nvSpPr>
        <p:spPr>
          <a:xfrm>
            <a:off x="1116000" y="50133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확인증을 출력한 후 보관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감사합니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1" name="바닥글 개체 틀 3"/>
          <p:cNvSpPr/>
          <p:nvPr/>
        </p:nvSpPr>
        <p:spPr>
          <a:xfrm>
            <a:off x="7308720" y="630864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9B8-6CF9-42EE-9F04-E6C7D76BAB3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터넷 익스플로어 주소창에</a:t>
            </a:r>
            <a:r>
              <a:rPr b="0" lang="en-US" sz="3200" spc="-1" strike="noStrike" u="sng">
                <a:solidFill>
                  <a:srgbClr val="64c143"/>
                </a:solidFill>
                <a:uFillTx/>
                <a:latin typeface="맑은 고딕"/>
                <a:hlinkClick r:id="rId2"/>
              </a:rPr>
              <a:t>http://210.117.202.146/app/wu/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입력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대한우슈쿵푸협회 홈페이지                                 대회참가신청 배너 클릭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8" name="슬라이드 번호 개체 틀 5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5EF5-6C9D-4128-9BBE-4FABE9902D0C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9" name="바닥글 개체 틀 6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1" name="슬라이드 번호 개체 틀 1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3FBA-C6EA-4F84-976B-D58D989193AF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바닥글 개체 틀 13"/>
          <p:cNvSpPr/>
          <p:nvPr/>
        </p:nvSpPr>
        <p:spPr>
          <a:xfrm>
            <a:off x="7236000" y="6381720"/>
            <a:ext cx="16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직사각형 6"/>
          <p:cNvSpPr/>
          <p:nvPr/>
        </p:nvSpPr>
        <p:spPr>
          <a:xfrm>
            <a:off x="826920" y="1996920"/>
            <a:ext cx="64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로그인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모집이 진행중인 대회 검색 클릭 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해당 대회명 클릭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참가신청 클릭 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합니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클릭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회참가 참가선수 등록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세부종별 선택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세부종목 선택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신청내용 확인 후 참가신청완료 클릭 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확인증 출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5" name="슬라이드 번호 개체 틀 3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0BC9-8465-486A-91F1-C913FBCC9C84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바닥글 개체 틀 4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왼쪽 화살표 6"/>
          <p:cNvSpPr/>
          <p:nvPr/>
        </p:nvSpPr>
        <p:spPr>
          <a:xfrm>
            <a:off x="2556000" y="2060640"/>
            <a:ext cx="863640" cy="3603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8" name="직사각형 7" descr=""/>
          <p:cNvPicPr/>
          <p:nvPr/>
        </p:nvPicPr>
        <p:blipFill>
          <a:blip r:embed="rId2"/>
          <a:stretch/>
        </p:blipFill>
        <p:spPr>
          <a:xfrm>
            <a:off x="3425760" y="1968480"/>
            <a:ext cx="1500120" cy="61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"/>
          <p:cNvPicPr/>
          <p:nvPr/>
        </p:nvPicPr>
        <p:blipFill>
          <a:blip r:embed="rId3"/>
          <a:stretch/>
        </p:blipFill>
        <p:spPr>
          <a:xfrm>
            <a:off x="468360" y="1500120"/>
            <a:ext cx="7832520" cy="4881600"/>
          </a:xfrm>
          <a:prstGeom prst="rect">
            <a:avLst/>
          </a:prstGeom>
          <a:ln w="0">
            <a:noFill/>
          </a:ln>
        </p:spPr>
      </p:pic>
      <p:sp>
        <p:nvSpPr>
          <p:cNvPr id="310" name="위쪽 화살표 10"/>
          <p:cNvSpPr/>
          <p:nvPr/>
        </p:nvSpPr>
        <p:spPr>
          <a:xfrm>
            <a:off x="4140360" y="4076640"/>
            <a:ext cx="718920" cy="216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1" name="모서리가 둥근 직사각형 11" descr=""/>
          <p:cNvPicPr/>
          <p:nvPr/>
        </p:nvPicPr>
        <p:blipFill>
          <a:blip r:embed="rId4"/>
          <a:stretch/>
        </p:blipFill>
        <p:spPr>
          <a:xfrm>
            <a:off x="2036880" y="4346640"/>
            <a:ext cx="4930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3" name="바닥글 개체 틀 3"/>
          <p:cNvSpPr/>
          <p:nvPr/>
        </p:nvSpPr>
        <p:spPr>
          <a:xfrm>
            <a:off x="7236000" y="6492960"/>
            <a:ext cx="173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D90-E25B-4D65-814F-CD5F976D1C3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20000" cy="4895640"/>
          </a:xfrm>
          <a:prstGeom prst="rect">
            <a:avLst/>
          </a:prstGeom>
          <a:ln w="0">
            <a:noFill/>
          </a:ln>
        </p:spPr>
      </p:pic>
      <p:sp>
        <p:nvSpPr>
          <p:cNvPr id="316" name="왼쪽 화살표 6"/>
          <p:cNvSpPr/>
          <p:nvPr/>
        </p:nvSpPr>
        <p:spPr>
          <a:xfrm>
            <a:off x="4067280" y="2421000"/>
            <a:ext cx="504720" cy="2872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7" name="직사각형 7" descr=""/>
          <p:cNvPicPr/>
          <p:nvPr/>
        </p:nvPicPr>
        <p:blipFill>
          <a:blip r:embed="rId3"/>
          <a:stretch/>
        </p:blipFill>
        <p:spPr>
          <a:xfrm>
            <a:off x="4602240" y="2114640"/>
            <a:ext cx="16700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9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FD7-B925-41BA-8440-1845FA7152B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4881600"/>
          </a:xfrm>
          <a:prstGeom prst="rect">
            <a:avLst/>
          </a:prstGeom>
          <a:ln w="0">
            <a:noFill/>
          </a:ln>
        </p:spPr>
      </p:pic>
      <p:grpSp>
        <p:nvGrpSpPr>
          <p:cNvPr id="322" name="왼쪽 대괄호 6"/>
          <p:cNvGrpSpPr/>
          <p:nvPr/>
        </p:nvGrpSpPr>
        <p:grpSpPr>
          <a:xfrm>
            <a:off x="1206360" y="2786040"/>
            <a:ext cx="238320" cy="480960"/>
            <a:chOff x="1206360" y="2786040"/>
            <a:chExt cx="238320" cy="480960"/>
          </a:xfrm>
        </p:grpSpPr>
        <p:pic>
          <p:nvPicPr>
            <p:cNvPr id="323" name="왼쪽 대괄호 6" descr=""/>
            <p:cNvPicPr/>
            <p:nvPr/>
          </p:nvPicPr>
          <p:blipFill>
            <a:blip r:embed="rId3"/>
            <a:stretch/>
          </p:blipFill>
          <p:spPr>
            <a:xfrm>
              <a:off x="1206360" y="2786040"/>
              <a:ext cx="238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81240" y="2927520"/>
              <a:ext cx="50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25" name="오른쪽 대괄호 7"/>
          <p:cNvGrpSpPr/>
          <p:nvPr/>
        </p:nvGrpSpPr>
        <p:grpSpPr>
          <a:xfrm>
            <a:off x="3170160" y="2871720"/>
            <a:ext cx="212760" cy="395280"/>
            <a:chOff x="3170160" y="2871720"/>
            <a:chExt cx="212760" cy="395280"/>
          </a:xfrm>
        </p:grpSpPr>
        <p:pic>
          <p:nvPicPr>
            <p:cNvPr id="326" name="오른쪽 대괄호 7" descr=""/>
            <p:cNvPicPr/>
            <p:nvPr/>
          </p:nvPicPr>
          <p:blipFill>
            <a:blip r:embed="rId4"/>
            <a:stretch/>
          </p:blipFill>
          <p:spPr>
            <a:xfrm>
              <a:off x="3170160" y="2871720"/>
              <a:ext cx="212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03640" y="2925720"/>
              <a:ext cx="33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328" name="구부러진 연결선 9" descr=""/>
          <p:cNvPicPr/>
          <p:nvPr/>
        </p:nvPicPr>
        <p:blipFill>
          <a:blip r:embed="rId5"/>
          <a:stretch/>
        </p:blipFill>
        <p:spPr>
          <a:xfrm>
            <a:off x="2316240" y="3103560"/>
            <a:ext cx="914400" cy="719280"/>
          </a:xfrm>
          <a:prstGeom prst="rect">
            <a:avLst/>
          </a:prstGeom>
          <a:ln w="0">
            <a:noFill/>
          </a:ln>
        </p:spPr>
      </p:pic>
      <p:pic>
        <p:nvPicPr>
          <p:cNvPr id="329" name="직사각형 10" descr=""/>
          <p:cNvPicPr/>
          <p:nvPr/>
        </p:nvPicPr>
        <p:blipFill>
          <a:blip r:embed="rId6"/>
          <a:stretch/>
        </p:blipFill>
        <p:spPr>
          <a:xfrm>
            <a:off x="3114720" y="3340080"/>
            <a:ext cx="212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3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7CF-8B09-4651-A05E-8A58A045F171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539640" y="1500120"/>
            <a:ext cx="7761240" cy="4881600"/>
          </a:xfrm>
          <a:prstGeom prst="rect">
            <a:avLst/>
          </a:prstGeom>
          <a:ln w="0">
            <a:noFill/>
          </a:ln>
        </p:spPr>
      </p:pic>
      <p:sp>
        <p:nvSpPr>
          <p:cNvPr id="334" name="왼쪽 화살표 6"/>
          <p:cNvSpPr/>
          <p:nvPr/>
        </p:nvSpPr>
        <p:spPr>
          <a:xfrm>
            <a:off x="1619280" y="2276640"/>
            <a:ext cx="288720" cy="21564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5" name="직사각형 7" descr=""/>
          <p:cNvPicPr/>
          <p:nvPr/>
        </p:nvPicPr>
        <p:blipFill>
          <a:blip r:embed="rId3"/>
          <a:stretch/>
        </p:blipFill>
        <p:spPr>
          <a:xfrm>
            <a:off x="1951200" y="2255760"/>
            <a:ext cx="17856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37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FEFA-FB18-4D39-8DA6-FB62DB6FCB46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834320" cy="4881600"/>
          </a:xfrm>
          <a:prstGeom prst="rect">
            <a:avLst/>
          </a:prstGeom>
          <a:ln w="0">
            <a:noFill/>
          </a:ln>
        </p:spPr>
      </p:pic>
      <p:sp>
        <p:nvSpPr>
          <p:cNvPr id="340" name="왼쪽 화살표 6"/>
          <p:cNvSpPr/>
          <p:nvPr/>
        </p:nvSpPr>
        <p:spPr>
          <a:xfrm>
            <a:off x="4356000" y="4653000"/>
            <a:ext cx="216000" cy="144360"/>
          </a:xfrm>
          <a:prstGeom prst="leftArrow">
            <a:avLst>
              <a:gd name="adj1" fmla="val 50000"/>
              <a:gd name="adj2" fmla="val 50055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1" name="직사각형 7" descr=""/>
          <p:cNvPicPr/>
          <p:nvPr/>
        </p:nvPicPr>
        <p:blipFill>
          <a:blip r:embed="rId3"/>
          <a:stretch/>
        </p:blipFill>
        <p:spPr>
          <a:xfrm>
            <a:off x="4700520" y="4559400"/>
            <a:ext cx="2406600" cy="976320"/>
          </a:xfrm>
          <a:prstGeom prst="rect">
            <a:avLst/>
          </a:prstGeom>
          <a:ln w="0">
            <a:noFill/>
          </a:ln>
        </p:spPr>
      </p:pic>
      <p:sp>
        <p:nvSpPr>
          <p:cNvPr id="342" name="위로 구부러진 화살표 13"/>
          <p:cNvSpPr/>
          <p:nvPr/>
        </p:nvSpPr>
        <p:spPr>
          <a:xfrm>
            <a:off x="3564000" y="5013360"/>
            <a:ext cx="1368360" cy="431640"/>
          </a:xfrm>
          <a:custGeom>
            <a:avLst/>
            <a:gdLst>
              <a:gd name="textAreaLeft" fmla="*/ 301680 w 1368360"/>
              <a:gd name="textAreaRight" fmla="*/ 1013040 w 13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-3578533"/>
                <a:lnTo>
                  <a:pt x="21298" y="5400"/>
                </a:lnTo>
                <a:lnTo>
                  <a:pt x="19896" y="0"/>
                </a:lnTo>
                <a:lnTo>
                  <a:pt x="17890" y="5400"/>
                </a:lnTo>
                <a:lnTo>
                  <a:pt x="18742" y="5400"/>
                </a:lnTo>
                <a:arcTo wR="9522" hR="21600" stAng="1821467" swAng="3442458"/>
                <a:lnTo>
                  <a:pt x="10374" y="21513"/>
                </a:lnTo>
                <a:arcTo wR="9522" hR="21600" stAng="5536075" swAng="5263925"/>
                <a:close/>
              </a:path>
              <a:path fill="darkenLess"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136075"/>
                <a:lnTo>
                  <a:pt x="10374" y="21513"/>
                </a:lnTo>
                <a:arcTo wR="9522" hR="21600" stAng="5536075" swAng="5263925"/>
                <a:close/>
              </a:path>
            </a:pathLst>
          </a:custGeom>
          <a:solidFill>
            <a:srgbClr val="a0c435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44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230-BED9-4562-BACB-64A45F3E962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오른쪽 중괄호 6"/>
          <p:cNvSpPr/>
          <p:nvPr/>
        </p:nvSpPr>
        <p:spPr>
          <a:xfrm>
            <a:off x="6372360" y="306864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40000"/>
              <a:gd name="textAreaBottom" fmla="*/ 14328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a0c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7" name="직사각형 7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042920" cy="1481040"/>
          </a:xfrm>
          <a:prstGeom prst="rect">
            <a:avLst/>
          </a:prstGeom>
          <a:ln w="0">
            <a:noFill/>
          </a:ln>
        </p:spPr>
      </p:pic>
      <p:sp>
        <p:nvSpPr>
          <p:cNvPr id="348" name="아래쪽 화살표 15"/>
          <p:cNvSpPr/>
          <p:nvPr/>
        </p:nvSpPr>
        <p:spPr>
          <a:xfrm>
            <a:off x="4500720" y="2852640"/>
            <a:ext cx="431640" cy="43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9" name="Picture 9" descr=""/>
          <p:cNvPicPr/>
          <p:nvPr/>
        </p:nvPicPr>
        <p:blipFill>
          <a:blip r:embed="rId3"/>
          <a:stretch/>
        </p:blipFill>
        <p:spPr>
          <a:xfrm>
            <a:off x="395280" y="1500120"/>
            <a:ext cx="7905600" cy="4808520"/>
          </a:xfrm>
          <a:prstGeom prst="rect">
            <a:avLst/>
          </a:prstGeom>
          <a:ln w="0">
            <a:noFill/>
          </a:ln>
        </p:spPr>
      </p:pic>
      <p:pic>
        <p:nvPicPr>
          <p:cNvPr id="350" name="직선 연결선 11" descr=""/>
          <p:cNvPicPr/>
          <p:nvPr/>
        </p:nvPicPr>
        <p:blipFill>
          <a:blip r:embed="rId4"/>
          <a:stretch/>
        </p:blipFill>
        <p:spPr>
          <a:xfrm>
            <a:off x="4700520" y="3164040"/>
            <a:ext cx="3029040" cy="188640"/>
          </a:xfrm>
          <a:prstGeom prst="rect">
            <a:avLst/>
          </a:prstGeom>
          <a:ln w="0">
            <a:noFill/>
          </a:ln>
        </p:spPr>
      </p:pic>
      <p:pic>
        <p:nvPicPr>
          <p:cNvPr id="351" name="직선 화살표 연결선 13" descr=""/>
          <p:cNvPicPr/>
          <p:nvPr/>
        </p:nvPicPr>
        <p:blipFill>
          <a:blip r:embed="rId5"/>
          <a:stretch/>
        </p:blipFill>
        <p:spPr>
          <a:xfrm>
            <a:off x="5907240" y="3267000"/>
            <a:ext cx="433080" cy="1494000"/>
          </a:xfrm>
          <a:prstGeom prst="rect">
            <a:avLst/>
          </a:prstGeom>
          <a:ln w="0">
            <a:noFill/>
          </a:ln>
        </p:spPr>
      </p:pic>
      <p:pic>
        <p:nvPicPr>
          <p:cNvPr id="352" name="직사각형 14" descr=""/>
          <p:cNvPicPr/>
          <p:nvPr/>
        </p:nvPicPr>
        <p:blipFill>
          <a:blip r:embed="rId6"/>
          <a:stretch/>
        </p:blipFill>
        <p:spPr>
          <a:xfrm>
            <a:off x="4913280" y="4559400"/>
            <a:ext cx="2773440" cy="1049400"/>
          </a:xfrm>
          <a:prstGeom prst="rect">
            <a:avLst/>
          </a:prstGeom>
          <a:ln w="0">
            <a:noFill/>
          </a:ln>
        </p:spPr>
      </p:pic>
      <p:sp>
        <p:nvSpPr>
          <p:cNvPr id="353" name="아래쪽 화살표 16"/>
          <p:cNvSpPr/>
          <p:nvPr/>
        </p:nvSpPr>
        <p:spPr>
          <a:xfrm>
            <a:off x="4356000" y="3141720"/>
            <a:ext cx="287280" cy="3585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3:56:16Z</dcterms:created>
  <dc:creator>user</dc:creator>
  <dc:description/>
  <dc:language>en-US</dc:language>
  <cp:lastModifiedBy>user</cp:lastModifiedBy>
  <dcterms:modified xsi:type="dcterms:W3CDTF">2011-02-18T01:41:27Z</dcterms:modified>
  <cp:revision>29</cp:revision>
  <dc:subject/>
  <dc:title>대회참가신청방법</dc:title>
</cp:coreProperties>
</file>