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9DBC-84A8-4C65-8E8F-7C5D74E7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98B-21CA-448B-9AC4-769A4C70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147-7F3C-4AA6-A998-A82800D4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6867-2E0F-4782-9074-B4FBD7D2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A626-3222-4649-A188-5A8A93B4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1838-AD4C-407C-984F-2AAF692A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7F10-7EE2-4DEE-8D5C-919085D3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6BD4-97CC-43B6-98EE-71940DD9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06EB-D7D8-42EF-9503-A73DA0E3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FBF3-C98B-4506-B9B0-677CAB7B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B1F8-B483-46AA-A03F-3E6F95D0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D238-DDA0-4589-B80D-6104983C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BDBC-1CC2-446C-B6E3-5660FA23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4400-48CB-406C-89E1-929E0F99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8A2D-BD10-4DC1-B9B0-D1A5B41E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DE88-907C-463F-AC6E-B0D3A785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F7F0-4A4C-44AD-95A2-B65E4EEC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13C5D-ED62-4DAA-B964-A1B99F53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69194-02D7-4BAF-8564-28CF9D86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45B0D-25C2-4E06-BF87-69617D6E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F869E-C831-4643-82C2-D634B096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2C3ED-A209-433D-A129-A2ACA5F6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1050-1AC5-4836-989B-FACB4F4C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89C3D-1F19-4EC1-A518-E6596CE8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EB5DD-7589-4C5B-BDAE-25F33DC7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288F1-A650-4510-8A01-02092032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D3E32-7A05-4E7B-875B-E2A66409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302ED-A8E0-4FDF-8DFC-B0D56DE9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2E15A-93C1-45C3-92DD-03F9E00B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CD5EF-4B92-4594-ABFC-36F134AF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A6EF2-DA52-498C-B7FC-258CD631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C2502-977D-4E93-951C-6AC2E5C6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6D1F3-3368-4326-A54D-40045267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023-9D5C-43EE-94F7-AE85D24B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FFDB8-A7D7-4997-93AA-5A9C4300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DFF50-86DF-4796-BCB4-C05D22D9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E500A-6A7A-4FE6-8931-20F928A7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332E7-6428-4774-8A55-970F2723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356B9-F311-4697-945A-CB2AA8E6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8950F-E546-47E9-BA2E-926B8A88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31982-32E3-4F96-A6A1-8DE4EB6A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68D89-617F-430B-A804-406EB072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82B71-2AA4-477A-AF7E-E4D4DEFC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25B62-0F3A-4159-8242-880361D3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752C-F83E-447D-BA33-8E1165D5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5534C-F974-4740-B74A-E1114B17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C0366-4F0F-49A5-9092-F5BF6C1F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3C544-2393-4B76-AA0D-1D7E7FDE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8F209-1A62-486E-A9CE-459D979E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C82AB-50B2-45D9-9ECD-6088C695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9B9C7-E8D4-4EF2-8115-B96131B1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1E911-7EC0-410B-B175-59616C00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8D3EC-A4BE-4A9F-988E-DFF7190E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3B1CE-0483-4D69-B2B7-0F1C8296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87260-5D9E-4DAD-86C6-6946F527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30A-9F22-4646-B3AD-ADD79BC1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9DCD2-4B2C-4046-BBE1-524A5AB24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8CE47-D16C-462B-960A-AE4BC9B4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8239F-11BE-4F82-B93B-3C033FFA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905E2-9922-4C7C-A3C3-4BF9B947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03AC4-B839-4A14-8646-E0E50592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E0D9C-3F75-4A49-87D6-6B2117B8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E9FF0-5624-4AB9-A26D-631D23ED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2971C-367A-4EE4-A992-C8023D7F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6DD18-4352-41AD-B642-2354EA7C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98CA1-1EC3-4A09-915F-8AECBB23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A1E-A9FE-479B-A874-292C62FE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2D1D0-F191-4EE2-9C80-2A42D009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FB3D9-3702-417C-B320-B891F5C1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1C0EC-2A9D-4EAF-9ABD-8A324386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AA546-9E86-4ED2-ADBC-B1429FA6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A901E-B1B9-4A2F-B3D2-A1114130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57032-04B4-45FF-A460-33547FE1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B63C3-45E0-4034-82E2-8E9823C3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4E014-DB1F-4CE4-8259-1FB154C4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C0D5D-85A2-40FE-B015-F9AFA7AA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C0C6E-6CBA-4F08-8E9A-42D58C8A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ECB-2D0B-47B4-92F1-FF8C7453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C3DAD-75F7-4D20-99ED-BAD6CE32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D98A5-FAFD-4253-951A-85CF99A6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ABB1A-3A04-434D-A2DF-C6A5BC78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2B947-EFE1-46FC-907E-5FBA675F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7F302-142C-4712-8257-8BE7C528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6F9E-26FE-4A98-84A3-C9EB60D0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A22F-3B67-401E-97A1-6A426A7C24A9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419F-2819-4B7D-B826-7E8FB497841E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선 연결선 6"/>
          <p:cNvSpPr/>
          <p:nvPr/>
        </p:nvSpPr>
        <p:spPr>
          <a:xfrm>
            <a:off x="1285920" y="3643200"/>
            <a:ext cx="650088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571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A1EC-3C6F-4448-BE9D-F272C6FA10D5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28400" y="6356520"/>
            <a:ext cx="22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3438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4F55-F75A-4FA6-8599-2715178A83B9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선 연결선 6"/>
          <p:cNvSpPr/>
          <p:nvPr/>
        </p:nvSpPr>
        <p:spPr>
          <a:xfrm>
            <a:off x="500040" y="1357200"/>
            <a:ext cx="678672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5949-48BE-4B69-9CAB-3CEACF7679D7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5E3C-CD11-42FA-A8CB-BB0E781D03D9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직선 연결선 6"/>
          <p:cNvSpPr/>
          <p:nvPr/>
        </p:nvSpPr>
        <p:spPr>
          <a:xfrm flipV="1">
            <a:off x="512640" y="4714560"/>
            <a:ext cx="8202600" cy="2844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1FA5-BDBC-4901-A80C-B1124DAAD635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4890-0163-4B0E-9D72-79BB99BD1951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직선 연결선 6"/>
          <p:cNvSpPr/>
          <p:nvPr/>
        </p:nvSpPr>
        <p:spPr>
          <a:xfrm>
            <a:off x="500040" y="6215040"/>
            <a:ext cx="8143920" cy="144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2AD3-1E26-4D6F-916A-DD9CE88756F2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14D8-5A59-4D0A-A2D4-CFAE96F39E8A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직선 연결선 6"/>
          <p:cNvSpPr/>
          <p:nvPr/>
        </p:nvSpPr>
        <p:spPr>
          <a:xfrm>
            <a:off x="500040" y="1214280"/>
            <a:ext cx="757224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CFD8-25DD-4401-BB10-242BCD98C49D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83ED-4AD7-4662-BE59-94D1424BDA1D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D835-34EF-4E68-8E9D-6E19199A02DE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BBC7-3603-4D34-BD51-19D522395CE8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210.117.202.146/app/wu/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제목 1" descr=""/>
          <p:cNvPicPr/>
          <p:nvPr/>
        </p:nvPicPr>
        <p:blipFill>
          <a:blip r:embed="rId1"/>
          <a:stretch/>
        </p:blipFill>
        <p:spPr>
          <a:xfrm>
            <a:off x="633240" y="2567160"/>
            <a:ext cx="7785360" cy="10112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000080" y="392868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장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/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체육관 로그인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94" name="바닥글 개체 틀 3"/>
          <p:cNvSpPr/>
          <p:nvPr/>
        </p:nvSpPr>
        <p:spPr>
          <a:xfrm>
            <a:off x="7308720" y="6381720"/>
            <a:ext cx="169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슬라이드 번호 개체 틀 4"/>
          <p:cNvSpPr/>
          <p:nvPr/>
        </p:nvSpPr>
        <p:spPr>
          <a:xfrm>
            <a:off x="3438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531B-0717-46A2-8D0A-980AC7454652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47" name="바닥글 개체 틀 3"/>
          <p:cNvSpPr/>
          <p:nvPr/>
        </p:nvSpPr>
        <p:spPr>
          <a:xfrm>
            <a:off x="7308720" y="6492960"/>
            <a:ext cx="166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8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5247-05C7-4E5D-AE46-BFED3F8A9432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7834320" cy="4881600"/>
          </a:xfrm>
          <a:prstGeom prst="rect">
            <a:avLst/>
          </a:prstGeom>
          <a:ln w="0">
            <a:noFill/>
          </a:ln>
        </p:spPr>
      </p:pic>
      <p:sp>
        <p:nvSpPr>
          <p:cNvPr id="350" name="왼쪽 화살표 6"/>
          <p:cNvSpPr/>
          <p:nvPr/>
        </p:nvSpPr>
        <p:spPr>
          <a:xfrm>
            <a:off x="4356000" y="4653000"/>
            <a:ext cx="216000" cy="144360"/>
          </a:xfrm>
          <a:prstGeom prst="leftArrow">
            <a:avLst>
              <a:gd name="adj1" fmla="val 50000"/>
              <a:gd name="adj2" fmla="val 50055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51" name="직사각형 7" descr=""/>
          <p:cNvPicPr/>
          <p:nvPr/>
        </p:nvPicPr>
        <p:blipFill>
          <a:blip r:embed="rId3"/>
          <a:stretch/>
        </p:blipFill>
        <p:spPr>
          <a:xfrm>
            <a:off x="4700520" y="4559400"/>
            <a:ext cx="2406600" cy="976320"/>
          </a:xfrm>
          <a:prstGeom prst="rect">
            <a:avLst/>
          </a:prstGeom>
          <a:ln w="0">
            <a:noFill/>
          </a:ln>
        </p:spPr>
      </p:pic>
      <p:sp>
        <p:nvSpPr>
          <p:cNvPr id="352" name="위로 구부러진 화살표 13"/>
          <p:cNvSpPr/>
          <p:nvPr/>
        </p:nvSpPr>
        <p:spPr>
          <a:xfrm>
            <a:off x="3564000" y="5013360"/>
            <a:ext cx="1368360" cy="431640"/>
          </a:xfrm>
          <a:custGeom>
            <a:avLst/>
            <a:gdLst>
              <a:gd name="textAreaLeft" fmla="*/ 301680 w 1368360"/>
              <a:gd name="textAreaRight" fmla="*/ 1013040 w 1368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2" hR="21600" stAng="10800000" swAng="-5400000"/>
                <a:lnTo>
                  <a:pt x="11226" y="21600"/>
                </a:lnTo>
                <a:arcTo wR="9522" hR="21600" stAng="5400000" swAng="-3578533"/>
                <a:lnTo>
                  <a:pt x="21298" y="5400"/>
                </a:lnTo>
                <a:lnTo>
                  <a:pt x="19896" y="0"/>
                </a:lnTo>
                <a:lnTo>
                  <a:pt x="17890" y="5400"/>
                </a:lnTo>
                <a:lnTo>
                  <a:pt x="18742" y="5400"/>
                </a:lnTo>
                <a:arcTo wR="9522" hR="21600" stAng="1821467" swAng="3442458"/>
                <a:lnTo>
                  <a:pt x="10374" y="21513"/>
                </a:lnTo>
                <a:arcTo wR="9522" hR="21600" stAng="5536075" swAng="5263925"/>
                <a:close/>
              </a:path>
              <a:path fill="darkenLess" w="21600" h="21600">
                <a:moveTo>
                  <a:pt x="0" y="0"/>
                </a:moveTo>
                <a:arcTo wR="9522" hR="21600" stAng="10800000" swAng="-5400000"/>
                <a:lnTo>
                  <a:pt x="11226" y="21600"/>
                </a:lnTo>
                <a:arcTo wR="9522" hR="21600" stAng="5400000" swAng="136075"/>
                <a:lnTo>
                  <a:pt x="10374" y="21513"/>
                </a:lnTo>
                <a:arcTo wR="9522" hR="21600" stAng="5536075" swAng="5263925"/>
                <a:close/>
              </a:path>
            </a:pathLst>
          </a:custGeom>
          <a:solidFill>
            <a:srgbClr val="a0c435"/>
          </a:solidFill>
          <a:ln w="22320">
            <a:solidFill>
              <a:srgbClr val="748f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54" name="바닥글 개체 틀 3"/>
          <p:cNvSpPr/>
          <p:nvPr/>
        </p:nvSpPr>
        <p:spPr>
          <a:xfrm>
            <a:off x="7308720" y="6492960"/>
            <a:ext cx="166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D8DC-A3CC-4097-A625-DED8095919B5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136000" cy="4824360"/>
          </a:xfrm>
          <a:prstGeom prst="rect">
            <a:avLst/>
          </a:prstGeom>
          <a:ln w="0">
            <a:noFill/>
          </a:ln>
        </p:spPr>
      </p:pic>
      <p:sp>
        <p:nvSpPr>
          <p:cNvPr id="357" name="오른쪽 중괄호 6"/>
          <p:cNvSpPr/>
          <p:nvPr/>
        </p:nvSpPr>
        <p:spPr>
          <a:xfrm>
            <a:off x="6372360" y="3068640"/>
            <a:ext cx="287280" cy="14400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1440000"/>
              <a:gd name="textAreaBottom" fmla="*/ 14328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59"/>
                </a:cubicBezTo>
                <a:lnTo>
                  <a:pt x="10800" y="10441"/>
                </a:lnTo>
                <a:cubicBezTo>
                  <a:pt x="10800" y="10621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59"/>
                </a:cubicBezTo>
                <a:lnTo>
                  <a:pt x="10800" y="21241"/>
                </a:lnTo>
                <a:cubicBezTo>
                  <a:pt x="10800" y="2142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a0c4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58" name="직사각형 7" descr=""/>
          <p:cNvPicPr/>
          <p:nvPr/>
        </p:nvPicPr>
        <p:blipFill>
          <a:blip r:embed="rId3"/>
          <a:stretch/>
        </p:blipFill>
        <p:spPr>
          <a:xfrm>
            <a:off x="6858000" y="3048120"/>
            <a:ext cx="1042920" cy="1481040"/>
          </a:xfrm>
          <a:prstGeom prst="rect">
            <a:avLst/>
          </a:prstGeom>
          <a:ln w="0">
            <a:noFill/>
          </a:ln>
        </p:spPr>
      </p:pic>
      <p:sp>
        <p:nvSpPr>
          <p:cNvPr id="359" name="아래쪽 화살표 15"/>
          <p:cNvSpPr/>
          <p:nvPr/>
        </p:nvSpPr>
        <p:spPr>
          <a:xfrm>
            <a:off x="4500720" y="2852640"/>
            <a:ext cx="431640" cy="432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61" name="바닥글 개체 틀 3"/>
          <p:cNvSpPr/>
          <p:nvPr/>
        </p:nvSpPr>
        <p:spPr>
          <a:xfrm>
            <a:off x="7164360" y="6381720"/>
            <a:ext cx="180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46D5-34D8-4F3D-A258-F28BBBF89CC8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468360" y="1500120"/>
            <a:ext cx="7991280" cy="4626000"/>
          </a:xfrm>
          <a:prstGeom prst="rect">
            <a:avLst/>
          </a:prstGeom>
          <a:ln w="0">
            <a:noFill/>
          </a:ln>
        </p:spPr>
      </p:pic>
      <p:pic>
        <p:nvPicPr>
          <p:cNvPr id="364" name="직선 연결선 7" descr=""/>
          <p:cNvPicPr/>
          <p:nvPr/>
        </p:nvPicPr>
        <p:blipFill>
          <a:blip r:embed="rId3"/>
          <a:stretch/>
        </p:blipFill>
        <p:spPr>
          <a:xfrm>
            <a:off x="738360" y="3236760"/>
            <a:ext cx="7448400" cy="189000"/>
          </a:xfrm>
          <a:prstGeom prst="rect">
            <a:avLst/>
          </a:prstGeom>
          <a:ln w="0">
            <a:noFill/>
          </a:ln>
        </p:spPr>
      </p:pic>
      <p:pic>
        <p:nvPicPr>
          <p:cNvPr id="365" name="모서리가 둥근 직사각형 8" descr=""/>
          <p:cNvPicPr/>
          <p:nvPr/>
        </p:nvPicPr>
        <p:blipFill>
          <a:blip r:embed="rId4"/>
          <a:stretch/>
        </p:blipFill>
        <p:spPr>
          <a:xfrm>
            <a:off x="1243080" y="3481560"/>
            <a:ext cx="6443640" cy="614160"/>
          </a:xfrm>
          <a:prstGeom prst="rect">
            <a:avLst/>
          </a:prstGeom>
          <a:ln w="0">
            <a:noFill/>
          </a:ln>
        </p:spPr>
      </p:pic>
      <p:sp>
        <p:nvSpPr>
          <p:cNvPr id="366" name="아래쪽 화살표 9"/>
          <p:cNvSpPr/>
          <p:nvPr/>
        </p:nvSpPr>
        <p:spPr>
          <a:xfrm>
            <a:off x="1116000" y="5013360"/>
            <a:ext cx="43164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확인증을 출력한 후 보관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감사합니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69" name="바닥글 개체 틀 3"/>
          <p:cNvSpPr/>
          <p:nvPr/>
        </p:nvSpPr>
        <p:spPr>
          <a:xfrm>
            <a:off x="7308720" y="6308640"/>
            <a:ext cx="166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2AA7-4DDB-4A4A-9A40-10FD9288E1DB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터넷 익스플로어 주소창에</a:t>
            </a:r>
            <a:r>
              <a:rPr b="0" lang="en-US" sz="3200" spc="-1" strike="noStrike" u="sng">
                <a:solidFill>
                  <a:srgbClr val="64c143"/>
                </a:solidFill>
                <a:uFillTx/>
                <a:latin typeface="맑은 고딕"/>
                <a:hlinkClick r:id="rId2"/>
              </a:rPr>
              <a:t>http://210.117.202.146/app/wu/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입력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대한우슈쿵푸협회 홈페이지                                 대회참가신청 배너 클릭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98" name="슬라이드 번호 개체 틀 5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BD5F-7D5A-4666-B57B-7CE099EE45FE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9" name="바닥글 개체 틀 6"/>
          <p:cNvSpPr/>
          <p:nvPr/>
        </p:nvSpPr>
        <p:spPr>
          <a:xfrm>
            <a:off x="7164360" y="6381720"/>
            <a:ext cx="165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01" name="슬라이드 번호 개체 틀 12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9832-9EA1-4558-A1CD-DADF66FD28BD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바닥글 개체 틀 13"/>
          <p:cNvSpPr/>
          <p:nvPr/>
        </p:nvSpPr>
        <p:spPr>
          <a:xfrm>
            <a:off x="7236000" y="6381720"/>
            <a:ext cx="16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직사각형 6"/>
          <p:cNvSpPr/>
          <p:nvPr/>
        </p:nvSpPr>
        <p:spPr>
          <a:xfrm>
            <a:off x="826920" y="1996920"/>
            <a:ext cx="648180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로그인 ⇒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모집이 진행중인 대회 검색 클릭 ⇒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해당 대회명 클릭 ⇒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참가신청 클릭 ⇒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동의서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동의합니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)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클릭 ⇒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세부종목별 참가선수 등록 ⇒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신청내용 확인 후 참가신청완료 클릭 ⇒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확인증 출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05" name="슬라이드 번호 개체 틀 3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D1DE-F8E2-4BDF-8D2C-E40C5AB6FA85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바닥글 개체 틀 4"/>
          <p:cNvSpPr/>
          <p:nvPr/>
        </p:nvSpPr>
        <p:spPr>
          <a:xfrm>
            <a:off x="7164360" y="6381720"/>
            <a:ext cx="165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468360" y="1500120"/>
            <a:ext cx="7832520" cy="4953240"/>
          </a:xfrm>
          <a:prstGeom prst="rect">
            <a:avLst/>
          </a:prstGeom>
          <a:ln w="0">
            <a:noFill/>
          </a:ln>
        </p:spPr>
      </p:pic>
      <p:sp>
        <p:nvSpPr>
          <p:cNvPr id="308" name="왼쪽 화살표 6"/>
          <p:cNvSpPr/>
          <p:nvPr/>
        </p:nvSpPr>
        <p:spPr>
          <a:xfrm>
            <a:off x="2556000" y="2060640"/>
            <a:ext cx="863640" cy="36036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09" name="직사각형 7" descr=""/>
          <p:cNvPicPr/>
          <p:nvPr/>
        </p:nvPicPr>
        <p:blipFill>
          <a:blip r:embed="rId3"/>
          <a:stretch/>
        </p:blipFill>
        <p:spPr>
          <a:xfrm>
            <a:off x="3425760" y="1968480"/>
            <a:ext cx="1500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11" name="바닥글 개체 틀 3"/>
          <p:cNvSpPr/>
          <p:nvPr/>
        </p:nvSpPr>
        <p:spPr>
          <a:xfrm>
            <a:off x="7308720" y="6492960"/>
            <a:ext cx="166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26DB-DAEC-4985-8419-F314F4A1DC39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7920000" cy="4897440"/>
          </a:xfrm>
          <a:prstGeom prst="rect">
            <a:avLst/>
          </a:prstGeom>
          <a:ln w="0">
            <a:noFill/>
          </a:ln>
        </p:spPr>
      </p:pic>
      <p:sp>
        <p:nvSpPr>
          <p:cNvPr id="314" name="위쪽 화살표 9"/>
          <p:cNvSpPr/>
          <p:nvPr/>
        </p:nvSpPr>
        <p:spPr>
          <a:xfrm>
            <a:off x="3995640" y="4149720"/>
            <a:ext cx="432000" cy="358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15" name="직사각형 10" descr=""/>
          <p:cNvPicPr/>
          <p:nvPr/>
        </p:nvPicPr>
        <p:blipFill>
          <a:blip r:embed="rId3"/>
          <a:stretch/>
        </p:blipFill>
        <p:spPr>
          <a:xfrm>
            <a:off x="3548160" y="4632480"/>
            <a:ext cx="13287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바닥글 개체 틀 1"/>
          <p:cNvSpPr/>
          <p:nvPr/>
        </p:nvSpPr>
        <p:spPr>
          <a:xfrm>
            <a:off x="7236000" y="6308640"/>
            <a:ext cx="16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슬라이드 번호 개체 틀 2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A785-4695-4D67-91AB-CA1FF6AD3CAE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18" name="Picture 3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630920" cy="5040360"/>
          </a:xfrm>
          <a:prstGeom prst="rect">
            <a:avLst/>
          </a:prstGeom>
          <a:ln w="0">
            <a:noFill/>
          </a:ln>
        </p:spPr>
      </p:pic>
      <p:pic>
        <p:nvPicPr>
          <p:cNvPr id="319" name="직사각형 5" descr=""/>
          <p:cNvPicPr/>
          <p:nvPr/>
        </p:nvPicPr>
        <p:blipFill>
          <a:blip r:embed="rId2"/>
          <a:stretch/>
        </p:blipFill>
        <p:spPr>
          <a:xfrm>
            <a:off x="6053040" y="2908440"/>
            <a:ext cx="2084400" cy="1261800"/>
          </a:xfrm>
          <a:prstGeom prst="rect">
            <a:avLst/>
          </a:prstGeom>
          <a:ln w="0">
            <a:noFill/>
          </a:ln>
        </p:spPr>
      </p:pic>
      <p:sp>
        <p:nvSpPr>
          <p:cNvPr id="320" name="왼쪽 화살표 6"/>
          <p:cNvSpPr/>
          <p:nvPr/>
        </p:nvSpPr>
        <p:spPr>
          <a:xfrm>
            <a:off x="5292720" y="3429000"/>
            <a:ext cx="719280" cy="43164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위로 굽은 화살표 8"/>
          <p:cNvSpPr/>
          <p:nvPr/>
        </p:nvSpPr>
        <p:spPr>
          <a:xfrm>
            <a:off x="5435640" y="4221000"/>
            <a:ext cx="1440000" cy="503280"/>
          </a:xfrm>
          <a:custGeom>
            <a:avLst/>
            <a:gdLst>
              <a:gd name="textAreaLeft" fmla="*/ 0 w 1440000"/>
              <a:gd name="textAreaRight" fmla="*/ 1377360 w 1440000"/>
              <a:gd name="textAreaTop" fmla="*/ 377640 h 503280"/>
              <a:gd name="textAreaBottom" fmla="*/ 503640 h 503280"/>
            </a:gdLst>
            <a:ahLst/>
            <a:rect l="textAreaLeft" t="textAreaTop" r="textAreaRight" b="textAreaBottom"/>
            <a:pathLst>
              <a:path w="1439863" h="503237">
                <a:moveTo>
                  <a:pt x="0" y="377428"/>
                </a:moveTo>
                <a:lnTo>
                  <a:pt x="1251149" y="377428"/>
                </a:lnTo>
                <a:lnTo>
                  <a:pt x="1251149" y="125809"/>
                </a:lnTo>
                <a:lnTo>
                  <a:pt x="1188245" y="125809"/>
                </a:lnTo>
                <a:lnTo>
                  <a:pt x="1314054" y="0"/>
                </a:lnTo>
                <a:lnTo>
                  <a:pt x="1439863" y="125809"/>
                </a:lnTo>
                <a:lnTo>
                  <a:pt x="1376958" y="125809"/>
                </a:lnTo>
                <a:lnTo>
                  <a:pt x="1376958" y="503237"/>
                </a:lnTo>
                <a:lnTo>
                  <a:pt x="0" y="503237"/>
                </a:lnTo>
                <a:close/>
              </a:path>
            </a:pathLst>
          </a:custGeom>
          <a:solidFill>
            <a:srgbClr val="e47963"/>
          </a:solidFill>
          <a:ln w="22320">
            <a:solidFill>
              <a:srgbClr val="a75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23" name="바닥글 개체 틀 3"/>
          <p:cNvSpPr/>
          <p:nvPr/>
        </p:nvSpPr>
        <p:spPr>
          <a:xfrm>
            <a:off x="7236000" y="6492960"/>
            <a:ext cx="173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E20F-4965-413A-8B0E-CA372DDF1A4B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7920000" cy="4895640"/>
          </a:xfrm>
          <a:prstGeom prst="rect">
            <a:avLst/>
          </a:prstGeom>
          <a:ln w="0">
            <a:noFill/>
          </a:ln>
        </p:spPr>
      </p:pic>
      <p:sp>
        <p:nvSpPr>
          <p:cNvPr id="326" name="왼쪽 화살표 6"/>
          <p:cNvSpPr/>
          <p:nvPr/>
        </p:nvSpPr>
        <p:spPr>
          <a:xfrm>
            <a:off x="4067280" y="2421000"/>
            <a:ext cx="504720" cy="28728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27" name="직사각형 7" descr=""/>
          <p:cNvPicPr/>
          <p:nvPr/>
        </p:nvPicPr>
        <p:blipFill>
          <a:blip r:embed="rId3"/>
          <a:stretch/>
        </p:blipFill>
        <p:spPr>
          <a:xfrm>
            <a:off x="4602240" y="2114640"/>
            <a:ext cx="167004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29" name="바닥글 개체 틀 3"/>
          <p:cNvSpPr/>
          <p:nvPr/>
        </p:nvSpPr>
        <p:spPr>
          <a:xfrm>
            <a:off x="7308720" y="6492960"/>
            <a:ext cx="166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0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BFFA-E1FE-48BE-9E77-2A7FE95C88EF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064360" cy="4881600"/>
          </a:xfrm>
          <a:prstGeom prst="rect">
            <a:avLst/>
          </a:prstGeom>
          <a:ln w="0">
            <a:noFill/>
          </a:ln>
        </p:spPr>
      </p:pic>
      <p:grpSp>
        <p:nvGrpSpPr>
          <p:cNvPr id="332" name="왼쪽 대괄호 6"/>
          <p:cNvGrpSpPr/>
          <p:nvPr/>
        </p:nvGrpSpPr>
        <p:grpSpPr>
          <a:xfrm>
            <a:off x="1206360" y="2786040"/>
            <a:ext cx="238320" cy="480960"/>
            <a:chOff x="1206360" y="2786040"/>
            <a:chExt cx="238320" cy="480960"/>
          </a:xfrm>
        </p:grpSpPr>
        <p:pic>
          <p:nvPicPr>
            <p:cNvPr id="333" name="왼쪽 대괄호 6" descr=""/>
            <p:cNvPicPr/>
            <p:nvPr/>
          </p:nvPicPr>
          <p:blipFill>
            <a:blip r:embed="rId3"/>
            <a:stretch/>
          </p:blipFill>
          <p:spPr>
            <a:xfrm>
              <a:off x="1206360" y="2786040"/>
              <a:ext cx="238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281240" y="2927520"/>
              <a:ext cx="507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335" name="오른쪽 대괄호 7"/>
          <p:cNvGrpSpPr/>
          <p:nvPr/>
        </p:nvGrpSpPr>
        <p:grpSpPr>
          <a:xfrm>
            <a:off x="3170160" y="2871720"/>
            <a:ext cx="212760" cy="395280"/>
            <a:chOff x="3170160" y="2871720"/>
            <a:chExt cx="212760" cy="395280"/>
          </a:xfrm>
        </p:grpSpPr>
        <p:pic>
          <p:nvPicPr>
            <p:cNvPr id="336" name="오른쪽 대괄호 7" descr=""/>
            <p:cNvPicPr/>
            <p:nvPr/>
          </p:nvPicPr>
          <p:blipFill>
            <a:blip r:embed="rId4"/>
            <a:stretch/>
          </p:blipFill>
          <p:spPr>
            <a:xfrm>
              <a:off x="3170160" y="2871720"/>
              <a:ext cx="2127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3203640" y="2925720"/>
              <a:ext cx="33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338" name="구부러진 연결선 9" descr=""/>
          <p:cNvPicPr/>
          <p:nvPr/>
        </p:nvPicPr>
        <p:blipFill>
          <a:blip r:embed="rId5"/>
          <a:stretch/>
        </p:blipFill>
        <p:spPr>
          <a:xfrm>
            <a:off x="2316240" y="3103560"/>
            <a:ext cx="914400" cy="719280"/>
          </a:xfrm>
          <a:prstGeom prst="rect">
            <a:avLst/>
          </a:prstGeom>
          <a:ln w="0">
            <a:noFill/>
          </a:ln>
        </p:spPr>
      </p:pic>
      <p:pic>
        <p:nvPicPr>
          <p:cNvPr id="339" name="직사각형 10" descr=""/>
          <p:cNvPicPr/>
          <p:nvPr/>
        </p:nvPicPr>
        <p:blipFill>
          <a:blip r:embed="rId6"/>
          <a:stretch/>
        </p:blipFill>
        <p:spPr>
          <a:xfrm>
            <a:off x="3114720" y="3340080"/>
            <a:ext cx="21225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41" name="바닥글 개체 틀 3"/>
          <p:cNvSpPr/>
          <p:nvPr/>
        </p:nvSpPr>
        <p:spPr>
          <a:xfrm>
            <a:off x="7308720" y="6492960"/>
            <a:ext cx="166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2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F6C4-7F9E-4AFE-B357-23818627F383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539640" y="1500120"/>
            <a:ext cx="7761240" cy="4881600"/>
          </a:xfrm>
          <a:prstGeom prst="rect">
            <a:avLst/>
          </a:prstGeom>
          <a:ln w="0">
            <a:noFill/>
          </a:ln>
        </p:spPr>
      </p:pic>
      <p:sp>
        <p:nvSpPr>
          <p:cNvPr id="344" name="왼쪽 화살표 6"/>
          <p:cNvSpPr/>
          <p:nvPr/>
        </p:nvSpPr>
        <p:spPr>
          <a:xfrm>
            <a:off x="1619280" y="2276640"/>
            <a:ext cx="288720" cy="215640"/>
          </a:xfrm>
          <a:prstGeom prst="leftArrow">
            <a:avLst>
              <a:gd name="adj1" fmla="val 50000"/>
              <a:gd name="adj2" fmla="val 50022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45" name="직사각형 7" descr=""/>
          <p:cNvPicPr/>
          <p:nvPr/>
        </p:nvPicPr>
        <p:blipFill>
          <a:blip r:embed="rId3"/>
          <a:stretch/>
        </p:blipFill>
        <p:spPr>
          <a:xfrm>
            <a:off x="1951200" y="2255760"/>
            <a:ext cx="178560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3:56:16Z</dcterms:created>
  <dc:creator>user</dc:creator>
  <dc:description/>
  <dc:language>en-US</dc:language>
  <cp:lastModifiedBy>user</cp:lastModifiedBy>
  <dcterms:modified xsi:type="dcterms:W3CDTF">2011-02-16T06:40:46Z</dcterms:modified>
  <cp:revision>24</cp:revision>
  <dc:subject/>
  <dc:title>대회참가신청방법</dc:title>
</cp:coreProperties>
</file>