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99E1-4534-4C03-9DFF-E37FADB55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824D-A056-467C-8A67-2E5061F8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F15D-21C9-4AB5-823F-3A9B8B362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052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052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0E4C-C335-402B-86DE-725D2CA7C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BC93-245C-4F86-BB1A-A42C68433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D4EE-A68E-4EB3-B3FC-6FF982BE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9505-FB60-4586-9389-6F458DF0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E2F9-A388-456C-BD46-7E5F88F5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FFB5-04F1-41F9-9CB7-1E879C73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428400"/>
            <a:ext cx="68295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8189-BF2C-4DB4-AC4C-28A2591F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982F-3F53-449C-BEA3-C81807E7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8AFF-A69C-49A4-A420-28D923C4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44B6-2629-41C6-A63E-72D4CEE1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C9F3-B42F-4B9D-A10B-982E969A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80BE-1EF9-4C32-B5D9-420C2951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04F2-1D67-423B-82FA-01A7343C8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5052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5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5052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5B553-2552-47D6-82E0-34D5B85F6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222EE-CF19-487E-AD5F-A2E99BEB4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1F3EE-8C17-4886-88D2-14B56AEB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8736A-D2CF-45C1-A83F-90C2B37A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50BDA-4EAC-4857-9949-6238FBD0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04142-CBA3-4E23-AA89-5DAA2EB3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82AB-9688-4339-AC6C-CF6A7F43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6840" y="428400"/>
            <a:ext cx="68295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EC64E-2ABA-4529-AAAE-BD96F96A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B77C9-E272-41C0-8382-E265111B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DE061-0321-4937-8B3C-65B29F67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CED36-C720-484D-804E-FB3695BD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EE03C-8C1A-428A-83B3-860B5775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C78F9-67F2-4F1A-A0D4-1AD06501F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68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5052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5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68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5052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720E8-E3AA-40B1-9FE0-93A35DE65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9BF26-38AE-4322-8D6C-081FFBAE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735DA-D81C-4852-876C-C0D2DE04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60DFB-69D4-4EE2-BC8C-2CABBC0E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6406-E48A-48D2-8324-9FE010E3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E0A74-B558-42DE-B1F3-A475730C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5B059-13F2-4461-A191-77D4FF29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6840" y="428400"/>
            <a:ext cx="68295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0C865-3632-48E8-8AC7-31ADB41C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254D9-BF1A-48FA-9A96-EAD4C8C9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042D3-1A97-4D62-9124-5341F7F4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5C4EA-6497-400C-BA28-71C2E14F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32486-91C3-4FFB-913D-E436BBD9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A5455-F78E-4A97-8398-133B64354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68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5052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85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68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5052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A5022-AB67-4C9F-95FD-1D1C27E9D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E87C4-136E-46AE-9397-512165453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862A-FA7A-4F4F-89E8-0B8FE1A5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98432-DAF3-4E78-B2A5-7120417F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38311-14E9-4138-AE98-C434113F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49A84-EC92-4FBB-993C-03805F79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652D1-2B80-490A-9FCD-152B9525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6840" y="428400"/>
            <a:ext cx="68295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AA8B4-2B23-4060-B157-4CAB16FA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893F5-4F62-4485-982C-E3F1F049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6F4C4-5E5F-49A4-BD49-7A4B26E6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1875E-C424-4C20-966A-8B885560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9E838-3BF6-4FD8-9F0E-C043720E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6CA66-F8C3-48C6-9301-37324BB82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28400"/>
            <a:ext cx="68295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81CA-D7B8-426A-A3BC-BCF4BE10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68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5052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85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68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5052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36026-A265-4472-AE6C-E6EB3ED26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986FA-8AEA-4C33-BFFE-0A94D43AB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53479-1ED2-4B37-A763-F67CC12A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7A8B5-0049-4EEB-90F7-BA5B6447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9CBFA-1EBA-4988-A84E-0B6BE1FD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707BA-CA0C-411A-ABB8-73A47A95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6840" y="428400"/>
            <a:ext cx="68295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08378-5DE0-4FE0-8140-E9FF5D31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6C6BB-94C8-4039-A364-31A9DCDF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6C580-3AE7-4291-B702-3AEB5912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EAA76-DB17-468A-9853-B6874797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C5F6-917A-47FF-823E-D3490BAE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22156-7665-4CFD-9485-1FB4BE63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E3556-0A5F-44BB-9145-74A50556E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68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5052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85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68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5052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149B6-35B9-42F6-997B-0264EE9B5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57AC5-5938-41B3-987D-B6F1BC0B7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4F45D-7A4F-4446-8353-EC063DE8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C4272-2E2C-4213-A24F-F84A273E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0976A-27B6-42F5-ADE9-5B0789EF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31E9A-EBA2-48AE-9001-4909A05B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6840" y="428400"/>
            <a:ext cx="68295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93247-989D-4FEB-9715-1A3C46F8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5BA2E-24FB-4A10-AF99-E278E18E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205A-4C69-4575-8B33-562FB942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5CB07-5FB4-4535-B8FE-FD86039B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A8E82-9B83-4525-8870-FC4D2818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DB7E4-6289-44BE-8FBA-C56AD559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7B308-55F8-47EB-BF4C-424FE3A22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68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5052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85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68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5052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8F677-D241-47A0-9867-D81AC156E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7E17-B78B-425C-838B-EBD6643A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28c87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e4796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180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FA47-2F73-484E-9FE8-C12EBFC79174}" type="datetime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1880" y="6356520"/>
            <a:ext cx="268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A1DD-CC54-4DEE-84C1-A97FC04B4C4D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직선 연결선 6"/>
          <p:cNvSpPr/>
          <p:nvPr/>
        </p:nvSpPr>
        <p:spPr>
          <a:xfrm>
            <a:off x="1285920" y="3643200"/>
            <a:ext cx="6500880" cy="1800"/>
          </a:xfrm>
          <a:prstGeom prst="line">
            <a:avLst/>
          </a:prstGeom>
          <a:ln cap="rnd" w="38160">
            <a:solidFill>
              <a:srgbClr val="dde0a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28c87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e4796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571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C0BC-1FD4-4834-9D98-A2A5C8854F76}" type="datetime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28400" y="6356520"/>
            <a:ext cx="221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34380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9199-294E-41AE-9AC2-0FC7801A9FFB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선 연결선 6"/>
          <p:cNvSpPr/>
          <p:nvPr/>
        </p:nvSpPr>
        <p:spPr>
          <a:xfrm>
            <a:off x="500040" y="1357200"/>
            <a:ext cx="6786720" cy="1800"/>
          </a:xfrm>
          <a:prstGeom prst="line">
            <a:avLst/>
          </a:prstGeom>
          <a:ln cap="rnd" w="38160">
            <a:solidFill>
              <a:srgbClr val="dde0a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28c87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e4796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57180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4601-5634-4ED5-A61A-61E05E3C1997}" type="datetime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461880" y="6356520"/>
            <a:ext cx="268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6274-FE72-4F8C-B331-EB8E4B848F13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직선 연결선 6"/>
          <p:cNvSpPr/>
          <p:nvPr/>
        </p:nvSpPr>
        <p:spPr>
          <a:xfrm flipV="1">
            <a:off x="512640" y="4714560"/>
            <a:ext cx="8202600" cy="28440"/>
          </a:xfrm>
          <a:prstGeom prst="line">
            <a:avLst/>
          </a:prstGeom>
          <a:ln cap="rnd" w="38160">
            <a:solidFill>
              <a:srgbClr val="dde0a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28c87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e4796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657180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5AC5-564E-41B4-9059-39BBD84E66BA}" type="datetime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461880" y="6356520"/>
            <a:ext cx="268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A6AF-B904-48BE-B96C-6AA0F8812371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직선 연결선 6"/>
          <p:cNvSpPr/>
          <p:nvPr/>
        </p:nvSpPr>
        <p:spPr>
          <a:xfrm>
            <a:off x="500040" y="6215040"/>
            <a:ext cx="8143920" cy="1440"/>
          </a:xfrm>
          <a:prstGeom prst="line">
            <a:avLst/>
          </a:prstGeom>
          <a:ln cap="rnd" w="38160">
            <a:solidFill>
              <a:srgbClr val="dde0a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28c87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e4796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657180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CD9B-F951-45EC-B0EE-AC0A3C8D6CF6}" type="datetime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461880" y="6356520"/>
            <a:ext cx="268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5BB7-35DF-4C7F-B387-43CA58203459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직선 연결선 6"/>
          <p:cNvSpPr/>
          <p:nvPr/>
        </p:nvSpPr>
        <p:spPr>
          <a:xfrm>
            <a:off x="500040" y="1214280"/>
            <a:ext cx="7572240" cy="1800"/>
          </a:xfrm>
          <a:prstGeom prst="line">
            <a:avLst/>
          </a:prstGeom>
          <a:ln cap="rnd" w="38160">
            <a:solidFill>
              <a:srgbClr val="dde0a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28c87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e4796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657180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D90B-F09C-4367-BC05-674BC75137E1}" type="datetime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461880" y="6356520"/>
            <a:ext cx="268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DD6A-BFC6-42FF-90E2-E48625C103AA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28c87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e4796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657180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7930-589F-46E1-8592-DC5231830BF2}" type="datetime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461880" y="6356520"/>
            <a:ext cx="268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3F76-28DE-4BC9-94F8-B0109BCC1EBF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210.117.202.146/app/wu/" TargetMode="Externa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제목 1" descr=""/>
          <p:cNvPicPr/>
          <p:nvPr/>
        </p:nvPicPr>
        <p:blipFill>
          <a:blip r:embed="rId1"/>
          <a:stretch/>
        </p:blipFill>
        <p:spPr>
          <a:xfrm>
            <a:off x="633240" y="2567160"/>
            <a:ext cx="7785360" cy="101124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1000080" y="392868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장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/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체육관 로그인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94" name="바닥글 개체 틀 3"/>
          <p:cNvSpPr/>
          <p:nvPr/>
        </p:nvSpPr>
        <p:spPr>
          <a:xfrm>
            <a:off x="7308720" y="6381720"/>
            <a:ext cx="1694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5" name="슬라이드 번호 개체 틀 4"/>
          <p:cNvSpPr/>
          <p:nvPr/>
        </p:nvSpPr>
        <p:spPr>
          <a:xfrm>
            <a:off x="34383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D5B2-D025-47E2-90CE-A4DF1B1E886D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제목 1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sp>
        <p:nvSpPr>
          <p:cNvPr id="347" name="바닥글 개체 틀 3"/>
          <p:cNvSpPr/>
          <p:nvPr/>
        </p:nvSpPr>
        <p:spPr>
          <a:xfrm>
            <a:off x="7308720" y="6492960"/>
            <a:ext cx="1660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8" name="슬라이드 번호 개체 틀 4"/>
          <p:cNvSpPr/>
          <p:nvPr/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5AF6-CE06-445B-B145-C5FC406A5189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7834320" cy="4881600"/>
          </a:xfrm>
          <a:prstGeom prst="rect">
            <a:avLst/>
          </a:prstGeom>
          <a:ln w="0">
            <a:noFill/>
          </a:ln>
        </p:spPr>
      </p:pic>
      <p:sp>
        <p:nvSpPr>
          <p:cNvPr id="350" name="왼쪽 화살표 6"/>
          <p:cNvSpPr/>
          <p:nvPr/>
        </p:nvSpPr>
        <p:spPr>
          <a:xfrm>
            <a:off x="4356000" y="4653000"/>
            <a:ext cx="216000" cy="144360"/>
          </a:xfrm>
          <a:prstGeom prst="leftArrow">
            <a:avLst>
              <a:gd name="adj1" fmla="val 50000"/>
              <a:gd name="adj2" fmla="val 50055"/>
            </a:avLst>
          </a:prstGeom>
          <a:solidFill>
            <a:srgbClr val="e47963"/>
          </a:solidFill>
          <a:ln w="22320">
            <a:solidFill>
              <a:srgbClr val="a75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51" name="직사각형 7" descr=""/>
          <p:cNvPicPr/>
          <p:nvPr/>
        </p:nvPicPr>
        <p:blipFill>
          <a:blip r:embed="rId3"/>
          <a:stretch/>
        </p:blipFill>
        <p:spPr>
          <a:xfrm>
            <a:off x="4700520" y="4559400"/>
            <a:ext cx="2406600" cy="976320"/>
          </a:xfrm>
          <a:prstGeom prst="rect">
            <a:avLst/>
          </a:prstGeom>
          <a:ln w="0">
            <a:noFill/>
          </a:ln>
        </p:spPr>
      </p:pic>
      <p:sp>
        <p:nvSpPr>
          <p:cNvPr id="352" name="위로 구부러진 화살표 13"/>
          <p:cNvSpPr/>
          <p:nvPr/>
        </p:nvSpPr>
        <p:spPr>
          <a:xfrm>
            <a:off x="3564000" y="5013360"/>
            <a:ext cx="1368360" cy="431640"/>
          </a:xfrm>
          <a:custGeom>
            <a:avLst/>
            <a:gdLst>
              <a:gd name="textAreaLeft" fmla="*/ 301680 w 1368360"/>
              <a:gd name="textAreaRight" fmla="*/ 1013040 w 136836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22" hR="21600" stAng="10800000" swAng="-5400000"/>
                <a:lnTo>
                  <a:pt x="11226" y="21600"/>
                </a:lnTo>
                <a:arcTo wR="9522" hR="21600" stAng="5400000" swAng="-3578533"/>
                <a:lnTo>
                  <a:pt x="21298" y="5400"/>
                </a:lnTo>
                <a:lnTo>
                  <a:pt x="19896" y="0"/>
                </a:lnTo>
                <a:lnTo>
                  <a:pt x="17890" y="5400"/>
                </a:lnTo>
                <a:lnTo>
                  <a:pt x="18742" y="5400"/>
                </a:lnTo>
                <a:arcTo wR="9522" hR="21600" stAng="1821467" swAng="3442458"/>
                <a:lnTo>
                  <a:pt x="10374" y="21513"/>
                </a:lnTo>
                <a:arcTo wR="9522" hR="21600" stAng="5536075" swAng="5263925"/>
                <a:close/>
              </a:path>
              <a:path fill="darkenLess" w="21600" h="21600">
                <a:moveTo>
                  <a:pt x="0" y="0"/>
                </a:moveTo>
                <a:arcTo wR="9522" hR="21600" stAng="10800000" swAng="-5400000"/>
                <a:lnTo>
                  <a:pt x="11226" y="21600"/>
                </a:lnTo>
                <a:arcTo wR="9522" hR="21600" stAng="5400000" swAng="136075"/>
                <a:lnTo>
                  <a:pt x="10374" y="21513"/>
                </a:lnTo>
                <a:arcTo wR="9522" hR="21600" stAng="5536075" swAng="5263925"/>
                <a:close/>
              </a:path>
            </a:pathLst>
          </a:custGeom>
          <a:solidFill>
            <a:srgbClr val="a0c435"/>
          </a:solidFill>
          <a:ln w="22320">
            <a:solidFill>
              <a:srgbClr val="748f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제목 1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sp>
        <p:nvSpPr>
          <p:cNvPr id="354" name="바닥글 개체 틀 3"/>
          <p:cNvSpPr/>
          <p:nvPr/>
        </p:nvSpPr>
        <p:spPr>
          <a:xfrm>
            <a:off x="7308720" y="6492960"/>
            <a:ext cx="1660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슬라이드 번호 개체 틀 4"/>
          <p:cNvSpPr/>
          <p:nvPr/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ABB7-EE82-4AA0-AC01-F575BA22A94E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8136000" cy="4824360"/>
          </a:xfrm>
          <a:prstGeom prst="rect">
            <a:avLst/>
          </a:prstGeom>
          <a:ln w="0">
            <a:noFill/>
          </a:ln>
        </p:spPr>
      </p:pic>
      <p:sp>
        <p:nvSpPr>
          <p:cNvPr id="357" name="오른쪽 중괄호 6"/>
          <p:cNvSpPr/>
          <p:nvPr/>
        </p:nvSpPr>
        <p:spPr>
          <a:xfrm>
            <a:off x="6372360" y="3068640"/>
            <a:ext cx="287280" cy="144000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1440000"/>
              <a:gd name="textAreaBottom" fmla="*/ 14328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0"/>
                  <a:pt x="10800" y="359"/>
                </a:cubicBezTo>
                <a:lnTo>
                  <a:pt x="10800" y="10441"/>
                </a:lnTo>
                <a:cubicBezTo>
                  <a:pt x="10800" y="10621"/>
                  <a:pt x="16200" y="10800"/>
                  <a:pt x="21600" y="10800"/>
                </a:cubicBezTo>
                <a:cubicBezTo>
                  <a:pt x="16200" y="10800"/>
                  <a:pt x="10800" y="10980"/>
                  <a:pt x="10800" y="11159"/>
                </a:cubicBezTo>
                <a:lnTo>
                  <a:pt x="10800" y="21241"/>
                </a:lnTo>
                <a:cubicBezTo>
                  <a:pt x="10800" y="21421"/>
                  <a:pt x="5400" y="21600"/>
                  <a:pt x="0" y="21600"/>
                </a:cubicBezTo>
              </a:path>
            </a:pathLst>
          </a:custGeom>
          <a:noFill/>
          <a:ln w="3240">
            <a:solidFill>
              <a:srgbClr val="a0c4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58" name="직사각형 7" descr=""/>
          <p:cNvPicPr/>
          <p:nvPr/>
        </p:nvPicPr>
        <p:blipFill>
          <a:blip r:embed="rId3"/>
          <a:stretch/>
        </p:blipFill>
        <p:spPr>
          <a:xfrm>
            <a:off x="6858000" y="3048120"/>
            <a:ext cx="1042920" cy="1481040"/>
          </a:xfrm>
          <a:prstGeom prst="rect">
            <a:avLst/>
          </a:prstGeom>
          <a:ln w="0">
            <a:noFill/>
          </a:ln>
        </p:spPr>
      </p:pic>
      <p:sp>
        <p:nvSpPr>
          <p:cNvPr id="359" name="아래쪽 화살표 15"/>
          <p:cNvSpPr/>
          <p:nvPr/>
        </p:nvSpPr>
        <p:spPr>
          <a:xfrm>
            <a:off x="4500720" y="2852640"/>
            <a:ext cx="431640" cy="43200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e47963"/>
          </a:solidFill>
          <a:ln w="22320">
            <a:solidFill>
              <a:srgbClr val="a75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제목 1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sp>
        <p:nvSpPr>
          <p:cNvPr id="361" name="바닥글 개체 틀 3"/>
          <p:cNvSpPr/>
          <p:nvPr/>
        </p:nvSpPr>
        <p:spPr>
          <a:xfrm>
            <a:off x="7164360" y="6381720"/>
            <a:ext cx="180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슬라이드 번호 개체 틀 4"/>
          <p:cNvSpPr/>
          <p:nvPr/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D660-2FB4-46D1-9446-396912BA1FD8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>
            <a:off x="468360" y="1500120"/>
            <a:ext cx="7991280" cy="4626000"/>
          </a:xfrm>
          <a:prstGeom prst="rect">
            <a:avLst/>
          </a:prstGeom>
          <a:ln w="0">
            <a:noFill/>
          </a:ln>
        </p:spPr>
      </p:pic>
      <p:pic>
        <p:nvPicPr>
          <p:cNvPr id="364" name="직선 연결선 7" descr=""/>
          <p:cNvPicPr/>
          <p:nvPr/>
        </p:nvPicPr>
        <p:blipFill>
          <a:blip r:embed="rId3"/>
          <a:stretch/>
        </p:blipFill>
        <p:spPr>
          <a:xfrm>
            <a:off x="738360" y="3236760"/>
            <a:ext cx="7448400" cy="189000"/>
          </a:xfrm>
          <a:prstGeom prst="rect">
            <a:avLst/>
          </a:prstGeom>
          <a:ln w="0">
            <a:noFill/>
          </a:ln>
        </p:spPr>
      </p:pic>
      <p:pic>
        <p:nvPicPr>
          <p:cNvPr id="365" name="모서리가 둥근 직사각형 8" descr=""/>
          <p:cNvPicPr/>
          <p:nvPr/>
        </p:nvPicPr>
        <p:blipFill>
          <a:blip r:embed="rId4"/>
          <a:stretch/>
        </p:blipFill>
        <p:spPr>
          <a:xfrm>
            <a:off x="1243080" y="3481560"/>
            <a:ext cx="6443640" cy="614160"/>
          </a:xfrm>
          <a:prstGeom prst="rect">
            <a:avLst/>
          </a:prstGeom>
          <a:ln w="0">
            <a:noFill/>
          </a:ln>
        </p:spPr>
      </p:pic>
      <p:sp>
        <p:nvSpPr>
          <p:cNvPr id="366" name="아래쪽 화살표 9"/>
          <p:cNvSpPr/>
          <p:nvPr/>
        </p:nvSpPr>
        <p:spPr>
          <a:xfrm>
            <a:off x="1116000" y="5013360"/>
            <a:ext cx="43164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e47963"/>
          </a:solidFill>
          <a:ln w="22320">
            <a:solidFill>
              <a:srgbClr val="a75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제목 1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확인증을 출력한 후 보관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감사합니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69" name="바닥글 개체 틀 3"/>
          <p:cNvSpPr/>
          <p:nvPr/>
        </p:nvSpPr>
        <p:spPr>
          <a:xfrm>
            <a:off x="7308720" y="6308640"/>
            <a:ext cx="1660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슬라이드 번호 개체 틀 4"/>
          <p:cNvSpPr/>
          <p:nvPr/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4FD8-1CDD-475D-A0C4-DCB5701A91BA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제목 1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 txBox="1"/>
          <p:nvPr/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터넷 익스플로어 주소창에</a:t>
            </a:r>
            <a:r>
              <a:rPr b="0" lang="en-US" sz="3200" spc="-1" strike="noStrike" u="sng">
                <a:solidFill>
                  <a:srgbClr val="64c143"/>
                </a:solidFill>
                <a:uFillTx/>
                <a:latin typeface="맑은 고딕"/>
                <a:hlinkClick r:id="rId2"/>
              </a:rPr>
              <a:t>http://210.117.202.146/app/wu/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입력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대한우슈쿵푸협회 홈페이지                                 대회참가신청 배너 클릭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98" name="슬라이드 번호 개체 틀 5"/>
          <p:cNvSpPr/>
          <p:nvPr/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01EE-175D-46A9-83E5-ABD47BFF1D3F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9" name="바닥글 개체 틀 6"/>
          <p:cNvSpPr/>
          <p:nvPr/>
        </p:nvSpPr>
        <p:spPr>
          <a:xfrm>
            <a:off x="7164360" y="6381720"/>
            <a:ext cx="1655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제목 1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sp>
        <p:nvSpPr>
          <p:cNvPr id="301" name="슬라이드 번호 개체 틀 12"/>
          <p:cNvSpPr/>
          <p:nvPr/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5370-121B-44CE-9B41-5E1C759F2556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2" name="바닥글 개체 틀 13"/>
          <p:cNvSpPr/>
          <p:nvPr/>
        </p:nvSpPr>
        <p:spPr>
          <a:xfrm>
            <a:off x="7236000" y="6381720"/>
            <a:ext cx="1657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3" name="직사각형 6"/>
          <p:cNvSpPr/>
          <p:nvPr/>
        </p:nvSpPr>
        <p:spPr>
          <a:xfrm>
            <a:off x="826920" y="1996920"/>
            <a:ext cx="648180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로그인 ⇒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모집이 진행중인 대회 검색 클릭 ⇒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해당 대회명 클릭 ⇒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참가신청 클릭 ⇒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동의서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동의합니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)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클릭 ⇒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세부종목별 참가선수 등록 ⇒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신청내용 확인 후 참가신청완료 클릭 ⇒</a:t>
            </a:r>
            <a:endParaRPr b="0" lang="en-US" sz="2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확인증 출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제목 1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sp>
        <p:nvSpPr>
          <p:cNvPr id="305" name="슬라이드 번호 개체 틀 3"/>
          <p:cNvSpPr/>
          <p:nvPr/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6B83-86FB-4FA2-B2CA-48470D5E4447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6" name="바닥글 개체 틀 4"/>
          <p:cNvSpPr/>
          <p:nvPr/>
        </p:nvSpPr>
        <p:spPr>
          <a:xfrm>
            <a:off x="7164360" y="6381720"/>
            <a:ext cx="1655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2"/>
          <a:stretch/>
        </p:blipFill>
        <p:spPr>
          <a:xfrm>
            <a:off x="468360" y="1500120"/>
            <a:ext cx="7832520" cy="4953240"/>
          </a:xfrm>
          <a:prstGeom prst="rect">
            <a:avLst/>
          </a:prstGeom>
          <a:ln w="0">
            <a:noFill/>
          </a:ln>
        </p:spPr>
      </p:pic>
      <p:sp>
        <p:nvSpPr>
          <p:cNvPr id="308" name="왼쪽 화살표 6"/>
          <p:cNvSpPr/>
          <p:nvPr/>
        </p:nvSpPr>
        <p:spPr>
          <a:xfrm>
            <a:off x="2556000" y="2060640"/>
            <a:ext cx="863640" cy="36036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e47963"/>
          </a:solidFill>
          <a:ln w="22320">
            <a:solidFill>
              <a:srgbClr val="a75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09" name="직사각형 7" descr=""/>
          <p:cNvPicPr/>
          <p:nvPr/>
        </p:nvPicPr>
        <p:blipFill>
          <a:blip r:embed="rId3"/>
          <a:stretch/>
        </p:blipFill>
        <p:spPr>
          <a:xfrm>
            <a:off x="3425760" y="1968480"/>
            <a:ext cx="150012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제목 1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sp>
        <p:nvSpPr>
          <p:cNvPr id="311" name="바닥글 개체 틀 3"/>
          <p:cNvSpPr/>
          <p:nvPr/>
        </p:nvSpPr>
        <p:spPr>
          <a:xfrm>
            <a:off x="7308720" y="6492960"/>
            <a:ext cx="1660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2" name="슬라이드 번호 개체 틀 4"/>
          <p:cNvSpPr/>
          <p:nvPr/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ABB1-AC36-4642-9817-C2F31A02D51A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7920000" cy="4897440"/>
          </a:xfrm>
          <a:prstGeom prst="rect">
            <a:avLst/>
          </a:prstGeom>
          <a:ln w="0">
            <a:noFill/>
          </a:ln>
        </p:spPr>
      </p:pic>
      <p:sp>
        <p:nvSpPr>
          <p:cNvPr id="314" name="위쪽 화살표 9"/>
          <p:cNvSpPr/>
          <p:nvPr/>
        </p:nvSpPr>
        <p:spPr>
          <a:xfrm>
            <a:off x="3995640" y="4149720"/>
            <a:ext cx="432000" cy="3589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e47963"/>
          </a:solidFill>
          <a:ln w="22320">
            <a:solidFill>
              <a:srgbClr val="a75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15" name="직사각형 10" descr=""/>
          <p:cNvPicPr/>
          <p:nvPr/>
        </p:nvPicPr>
        <p:blipFill>
          <a:blip r:embed="rId3"/>
          <a:stretch/>
        </p:blipFill>
        <p:spPr>
          <a:xfrm>
            <a:off x="3548160" y="4632480"/>
            <a:ext cx="13287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바닥글 개체 틀 1"/>
          <p:cNvSpPr/>
          <p:nvPr/>
        </p:nvSpPr>
        <p:spPr>
          <a:xfrm>
            <a:off x="7236000" y="6308640"/>
            <a:ext cx="16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슬라이드 번호 개체 틀 2"/>
          <p:cNvSpPr/>
          <p:nvPr/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E292-7CF5-426E-932C-18287EBE6284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18" name="Picture 3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630920" cy="5040360"/>
          </a:xfrm>
          <a:prstGeom prst="rect">
            <a:avLst/>
          </a:prstGeom>
          <a:ln w="0">
            <a:noFill/>
          </a:ln>
        </p:spPr>
      </p:pic>
      <p:pic>
        <p:nvPicPr>
          <p:cNvPr id="319" name="직사각형 5" descr=""/>
          <p:cNvPicPr/>
          <p:nvPr/>
        </p:nvPicPr>
        <p:blipFill>
          <a:blip r:embed="rId2"/>
          <a:stretch/>
        </p:blipFill>
        <p:spPr>
          <a:xfrm>
            <a:off x="6053040" y="2908440"/>
            <a:ext cx="2084400" cy="1261800"/>
          </a:xfrm>
          <a:prstGeom prst="rect">
            <a:avLst/>
          </a:prstGeom>
          <a:ln w="0">
            <a:noFill/>
          </a:ln>
        </p:spPr>
      </p:pic>
      <p:sp>
        <p:nvSpPr>
          <p:cNvPr id="320" name="왼쪽 화살표 6"/>
          <p:cNvSpPr/>
          <p:nvPr/>
        </p:nvSpPr>
        <p:spPr>
          <a:xfrm>
            <a:off x="5292720" y="3429000"/>
            <a:ext cx="719280" cy="431640"/>
          </a:xfrm>
          <a:prstGeom prst="leftArrow">
            <a:avLst>
              <a:gd name="adj1" fmla="val 50000"/>
              <a:gd name="adj2" fmla="val 50030"/>
            </a:avLst>
          </a:prstGeom>
          <a:solidFill>
            <a:srgbClr val="e47963"/>
          </a:solidFill>
          <a:ln w="22320">
            <a:solidFill>
              <a:srgbClr val="a75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1" name="위로 굽은 화살표 8"/>
          <p:cNvSpPr/>
          <p:nvPr/>
        </p:nvSpPr>
        <p:spPr>
          <a:xfrm>
            <a:off x="5435640" y="4221000"/>
            <a:ext cx="1440000" cy="503280"/>
          </a:xfrm>
          <a:custGeom>
            <a:avLst/>
            <a:gdLst>
              <a:gd name="textAreaLeft" fmla="*/ 0 w 1440000"/>
              <a:gd name="textAreaRight" fmla="*/ 1377360 w 1440000"/>
              <a:gd name="textAreaTop" fmla="*/ 377640 h 503280"/>
              <a:gd name="textAreaBottom" fmla="*/ 503640 h 503280"/>
            </a:gdLst>
            <a:ahLst/>
            <a:rect l="textAreaLeft" t="textAreaTop" r="textAreaRight" b="textAreaBottom"/>
            <a:pathLst>
              <a:path w="1439863" h="503237">
                <a:moveTo>
                  <a:pt x="0" y="377428"/>
                </a:moveTo>
                <a:lnTo>
                  <a:pt x="1251149" y="377428"/>
                </a:lnTo>
                <a:lnTo>
                  <a:pt x="1251149" y="125809"/>
                </a:lnTo>
                <a:lnTo>
                  <a:pt x="1188245" y="125809"/>
                </a:lnTo>
                <a:lnTo>
                  <a:pt x="1314054" y="0"/>
                </a:lnTo>
                <a:lnTo>
                  <a:pt x="1439863" y="125809"/>
                </a:lnTo>
                <a:lnTo>
                  <a:pt x="1376958" y="125809"/>
                </a:lnTo>
                <a:lnTo>
                  <a:pt x="1376958" y="503237"/>
                </a:lnTo>
                <a:lnTo>
                  <a:pt x="0" y="503237"/>
                </a:lnTo>
                <a:close/>
              </a:path>
            </a:pathLst>
          </a:custGeom>
          <a:solidFill>
            <a:srgbClr val="e47963"/>
          </a:solidFill>
          <a:ln w="22320">
            <a:solidFill>
              <a:srgbClr val="a75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제목 1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sp>
        <p:nvSpPr>
          <p:cNvPr id="323" name="바닥글 개체 틀 3"/>
          <p:cNvSpPr/>
          <p:nvPr/>
        </p:nvSpPr>
        <p:spPr>
          <a:xfrm>
            <a:off x="7236000" y="6492960"/>
            <a:ext cx="173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슬라이드 번호 개체 틀 4"/>
          <p:cNvSpPr/>
          <p:nvPr/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2993-E7EB-40CF-8054-41330433BD82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25" name="Picture 2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7920000" cy="4895640"/>
          </a:xfrm>
          <a:prstGeom prst="rect">
            <a:avLst/>
          </a:prstGeom>
          <a:ln w="0">
            <a:noFill/>
          </a:ln>
        </p:spPr>
      </p:pic>
      <p:sp>
        <p:nvSpPr>
          <p:cNvPr id="326" name="왼쪽 화살표 6"/>
          <p:cNvSpPr/>
          <p:nvPr/>
        </p:nvSpPr>
        <p:spPr>
          <a:xfrm>
            <a:off x="4067280" y="2421000"/>
            <a:ext cx="504720" cy="287280"/>
          </a:xfrm>
          <a:prstGeom prst="leftArrow">
            <a:avLst>
              <a:gd name="adj1" fmla="val 50000"/>
              <a:gd name="adj2" fmla="val 49998"/>
            </a:avLst>
          </a:prstGeom>
          <a:solidFill>
            <a:srgbClr val="e47963"/>
          </a:solidFill>
          <a:ln w="22320">
            <a:solidFill>
              <a:srgbClr val="a75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27" name="직사각형 7" descr=""/>
          <p:cNvPicPr/>
          <p:nvPr/>
        </p:nvPicPr>
        <p:blipFill>
          <a:blip r:embed="rId3"/>
          <a:stretch/>
        </p:blipFill>
        <p:spPr>
          <a:xfrm>
            <a:off x="4602240" y="2114640"/>
            <a:ext cx="1670040" cy="6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제목 1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sp>
        <p:nvSpPr>
          <p:cNvPr id="329" name="바닥글 개체 틀 3"/>
          <p:cNvSpPr/>
          <p:nvPr/>
        </p:nvSpPr>
        <p:spPr>
          <a:xfrm>
            <a:off x="7308720" y="6492960"/>
            <a:ext cx="1660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0" name="슬라이드 번호 개체 틀 4"/>
          <p:cNvSpPr/>
          <p:nvPr/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E7FB-DE05-49E9-86FC-7B7CB1A20629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8064360" cy="4881600"/>
          </a:xfrm>
          <a:prstGeom prst="rect">
            <a:avLst/>
          </a:prstGeom>
          <a:ln w="0">
            <a:noFill/>
          </a:ln>
        </p:spPr>
      </p:pic>
      <p:grpSp>
        <p:nvGrpSpPr>
          <p:cNvPr id="332" name="왼쪽 대괄호 6"/>
          <p:cNvGrpSpPr/>
          <p:nvPr/>
        </p:nvGrpSpPr>
        <p:grpSpPr>
          <a:xfrm>
            <a:off x="1206360" y="2786040"/>
            <a:ext cx="238320" cy="480960"/>
            <a:chOff x="1206360" y="2786040"/>
            <a:chExt cx="238320" cy="480960"/>
          </a:xfrm>
        </p:grpSpPr>
        <p:pic>
          <p:nvPicPr>
            <p:cNvPr id="333" name="왼쪽 대괄호 6" descr=""/>
            <p:cNvPicPr/>
            <p:nvPr/>
          </p:nvPicPr>
          <p:blipFill>
            <a:blip r:embed="rId3"/>
            <a:stretch/>
          </p:blipFill>
          <p:spPr>
            <a:xfrm>
              <a:off x="1206360" y="2786040"/>
              <a:ext cx="2383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1281240" y="2927520"/>
              <a:ext cx="5076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335" name="오른쪽 대괄호 7"/>
          <p:cNvGrpSpPr/>
          <p:nvPr/>
        </p:nvGrpSpPr>
        <p:grpSpPr>
          <a:xfrm>
            <a:off x="3170160" y="2871720"/>
            <a:ext cx="212760" cy="395280"/>
            <a:chOff x="3170160" y="2871720"/>
            <a:chExt cx="212760" cy="395280"/>
          </a:xfrm>
        </p:grpSpPr>
        <p:pic>
          <p:nvPicPr>
            <p:cNvPr id="336" name="오른쪽 대괄호 7" descr=""/>
            <p:cNvPicPr/>
            <p:nvPr/>
          </p:nvPicPr>
          <p:blipFill>
            <a:blip r:embed="rId4"/>
            <a:stretch/>
          </p:blipFill>
          <p:spPr>
            <a:xfrm>
              <a:off x="3170160" y="2871720"/>
              <a:ext cx="21276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3203640" y="2925720"/>
              <a:ext cx="33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338" name="구부러진 연결선 9" descr=""/>
          <p:cNvPicPr/>
          <p:nvPr/>
        </p:nvPicPr>
        <p:blipFill>
          <a:blip r:embed="rId5"/>
          <a:stretch/>
        </p:blipFill>
        <p:spPr>
          <a:xfrm>
            <a:off x="2316240" y="3103560"/>
            <a:ext cx="914400" cy="719280"/>
          </a:xfrm>
          <a:prstGeom prst="rect">
            <a:avLst/>
          </a:prstGeom>
          <a:ln w="0">
            <a:noFill/>
          </a:ln>
        </p:spPr>
      </p:pic>
      <p:pic>
        <p:nvPicPr>
          <p:cNvPr id="339" name="직사각형 10" descr=""/>
          <p:cNvPicPr/>
          <p:nvPr/>
        </p:nvPicPr>
        <p:blipFill>
          <a:blip r:embed="rId6"/>
          <a:stretch/>
        </p:blipFill>
        <p:spPr>
          <a:xfrm>
            <a:off x="3114720" y="3340080"/>
            <a:ext cx="21225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제목 1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sp>
        <p:nvSpPr>
          <p:cNvPr id="341" name="바닥글 개체 틀 3"/>
          <p:cNvSpPr/>
          <p:nvPr/>
        </p:nvSpPr>
        <p:spPr>
          <a:xfrm>
            <a:off x="7308720" y="6492960"/>
            <a:ext cx="1660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2" name="슬라이드 번호 개체 틀 4"/>
          <p:cNvSpPr/>
          <p:nvPr/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521D-104B-4DD0-A4A2-752C0C3E7AB7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2"/>
          <a:stretch/>
        </p:blipFill>
        <p:spPr>
          <a:xfrm>
            <a:off x="539640" y="1500120"/>
            <a:ext cx="7761240" cy="4881600"/>
          </a:xfrm>
          <a:prstGeom prst="rect">
            <a:avLst/>
          </a:prstGeom>
          <a:ln w="0">
            <a:noFill/>
          </a:ln>
        </p:spPr>
      </p:pic>
      <p:sp>
        <p:nvSpPr>
          <p:cNvPr id="344" name="왼쪽 화살표 6"/>
          <p:cNvSpPr/>
          <p:nvPr/>
        </p:nvSpPr>
        <p:spPr>
          <a:xfrm>
            <a:off x="1619280" y="2276640"/>
            <a:ext cx="288720" cy="215640"/>
          </a:xfrm>
          <a:prstGeom prst="leftArrow">
            <a:avLst>
              <a:gd name="adj1" fmla="val 50000"/>
              <a:gd name="adj2" fmla="val 50022"/>
            </a:avLst>
          </a:prstGeom>
          <a:solidFill>
            <a:srgbClr val="e47963"/>
          </a:solidFill>
          <a:ln w="22320">
            <a:solidFill>
              <a:srgbClr val="a75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45" name="직사각형 7" descr=""/>
          <p:cNvPicPr/>
          <p:nvPr/>
        </p:nvPicPr>
        <p:blipFill>
          <a:blip r:embed="rId3"/>
          <a:stretch/>
        </p:blipFill>
        <p:spPr>
          <a:xfrm>
            <a:off x="1951200" y="2255760"/>
            <a:ext cx="178560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03:56:16Z</dcterms:created>
  <dc:creator>user</dc:creator>
  <dc:description/>
  <dc:language>en-US</dc:language>
  <cp:lastModifiedBy>user</cp:lastModifiedBy>
  <dcterms:modified xsi:type="dcterms:W3CDTF">2011-02-16T06:40:46Z</dcterms:modified>
  <cp:revision>24</cp:revision>
  <dc:subject/>
  <dc:title>대회참가신청방법</dc:title>
</cp:coreProperties>
</file>