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B03-7612-4D25-835A-DB7A8D4C6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969-6B8D-444D-91D9-C88F6AAF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849-ABB6-4E9A-9143-6E0296BA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4A7-D16A-45C3-8F0E-09F114A4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17F6-29A8-4993-95A8-885439B4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8A66-6289-47D9-ADB1-15D62B18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89A8-166A-46D5-820E-60A54F5A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538A-8402-4E0D-9547-D1FF92B0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0B4F-5BDD-49E7-85D4-35063C4F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349C-3F70-4DB7-9E00-B6B1A986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77A5-40BB-41C6-A778-A23E378F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2C2-07E5-43DE-8667-B856DB88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1574-2A1C-4199-BC74-BF94DD6E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2CE1-87DA-4B32-AAD1-C3A71B52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93D6-A04C-41FB-A00D-BB2F69D7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308F-B502-4875-9C0F-B8FE9861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514B-248C-4750-BE5F-CFDF5A79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13E6F-962E-479B-9BF2-5395B81A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B12D0-9591-492E-805B-C24C3AFC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C37D1-2D7F-4F3F-AEC1-F01E028C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36DE6-7643-4549-9F15-A499F1E0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5DF4D-8A0C-4AFF-9C29-3F5D4CF6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441-BD80-439D-96EE-81903E87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22D3-29C5-4CCF-8B16-886227A2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CB504-42BE-4E8E-9CF3-B290C3AA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B3B47-46A4-4711-A1D3-C13D57D9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A881E-CDF8-49B4-8B19-8F3858B9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AB8C3-58D0-441B-A99A-3D592C41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D1B54-F34D-4B93-BECE-0158440B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CED54-350C-49DB-AEE0-A3653E7F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EA129-8A9C-4164-A780-04966E666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7999E-317B-4D84-92AF-E1A5B67B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CBB34-08B2-43E8-A14B-CD65AE79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8414-4054-4F9D-8FBC-6CB1124C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F8627-D618-4F64-A98B-44CDD3EE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A7661-9665-42F1-9ACB-CF64326F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EE27D-0054-46FC-A88E-1723B1EB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96642-6D3C-4C57-B3FC-7236046C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AF118-F4BC-48B7-9985-8B247844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142B5-6BAF-4D26-ACC3-555B77BD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EAB11-425D-4F71-AE5E-209A6CA0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08738-8972-4204-B06F-799A375B8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1899B-80AE-4368-9297-67F1AD1C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DF3FC-C6AE-4C9B-9AF0-7FE0E816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5C9-B8E8-4429-83EB-CC900C86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924EA-DF9D-4614-BFCB-936D19A1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858C1-2A55-40FE-9775-0EA76F8F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51648-4C5B-4B99-AB48-1006D793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19923-48E5-4257-A23C-A6F2927A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ECFFF-59F1-4271-85FA-444D961D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1ADCE-9F72-4C03-A4B6-D8C68CCD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24CCC-C12E-4C08-9992-233AC764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DCFC3-6E99-418E-BDD1-CBC0AEB2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0D5C6-5ADA-4E57-9A79-211CF828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A2522-74A7-4374-8B14-A76AE75A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775B-B779-49D6-8929-C8CF81F1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09EC9-65D5-40DE-9A14-DF346035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37E4F-3FA0-4607-98C5-35B65C4F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90DB6-65CA-4916-9823-FB08C1FA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E9D86-FCDC-4C5F-A99A-33173BB3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8D24A-FB74-4C95-89BE-65BE6838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15549-09A6-4C2D-90F0-3799C590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1B8CC-FA3D-4EC3-947C-600158BD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80148-8956-4CCA-8AC0-496E870B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63B20-AFC1-45AA-8124-C5EBAEC2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F4EE6-E7C8-414D-9051-690DF6AF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FC18-09A5-40AA-BB7F-98E48B89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22BC5-FBFD-49E0-A3B8-01BE09BF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E5CDB-3409-461B-BCF8-732B7BFEA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AC0E5-2876-4735-A098-D5CD1610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8EBC7-9AE4-4389-9E4C-EC21E7AA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16994-1713-47F5-8209-778D4F7A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FDD43-E46B-42DE-8334-50C9B2E0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4E27E-0869-448A-BB30-14A69582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65F20-C9EA-44A1-AD52-D2F02150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6840" y="428400"/>
            <a:ext cx="68295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CF6D0-19E1-4C90-AAB7-14CC341F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F303F-16EB-4201-9DBB-14A9E5FE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D8B-F9C1-4143-B000-268007AA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8E2FD-7A29-4267-8C65-C7F1A65E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37458-CDAA-4B5A-94C1-B96BE405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4779D-27B1-4603-9E47-6571032C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02680" y="391644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79972-F707-4034-A7A3-D1DFE09C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6808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50520" y="1500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8564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6808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50520" y="391644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BD508-354D-45D6-BE50-9AD5D132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2680" y="1500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91644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A2C-B9E8-4D63-9FB0-79C2444E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3754-DC3B-40B4-88F1-975D30B0891B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047C-EAA8-4814-B90F-342BFE506A66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직선 연결선 6"/>
          <p:cNvSpPr/>
          <p:nvPr/>
        </p:nvSpPr>
        <p:spPr>
          <a:xfrm>
            <a:off x="1285920" y="3643200"/>
            <a:ext cx="650088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571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D156-41D9-49CB-A47E-BE3DD087C619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28400" y="6356520"/>
            <a:ext cx="221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34380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2E20-8DBA-470D-9D53-BBC475B1E5E5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직선 연결선 6"/>
          <p:cNvSpPr/>
          <p:nvPr/>
        </p:nvSpPr>
        <p:spPr>
          <a:xfrm>
            <a:off x="500040" y="1357200"/>
            <a:ext cx="678672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D603-B68B-40E0-B93B-DB6560FAFC20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5ECD-F856-4375-BC80-9CE7AA99F151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직선 연결선 6"/>
          <p:cNvSpPr/>
          <p:nvPr/>
        </p:nvSpPr>
        <p:spPr>
          <a:xfrm flipV="1">
            <a:off x="512640" y="4714560"/>
            <a:ext cx="8202600" cy="2844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0CC1-A932-45BC-86A9-BDC8B306B30C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88F7-F78E-4917-957C-EA8936F1C635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직선 연결선 6"/>
          <p:cNvSpPr/>
          <p:nvPr/>
        </p:nvSpPr>
        <p:spPr>
          <a:xfrm>
            <a:off x="500040" y="6215040"/>
            <a:ext cx="8143920" cy="144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AF27-64F1-429E-993A-02A3BB973406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4DDD-5110-4A39-BDD8-6A6F37A6FB3B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직선 연결선 6"/>
          <p:cNvSpPr/>
          <p:nvPr/>
        </p:nvSpPr>
        <p:spPr>
          <a:xfrm>
            <a:off x="500040" y="1214280"/>
            <a:ext cx="7572240" cy="1800"/>
          </a:xfrm>
          <a:prstGeom prst="line">
            <a:avLst/>
          </a:prstGeom>
          <a:ln cap="rnd" w="38160">
            <a:solidFill>
              <a:srgbClr val="dde0ae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9221-2397-4379-8945-83C3D8144744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A3F6-0976-403D-8B2C-5FE958627659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6829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Y견고딕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a0c435"/>
              </a:buClr>
              <a:buSzPct val="90000"/>
              <a:buFont typeface="Wingdings 2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8bbdb"/>
              </a:buClr>
              <a:buSzPct val="85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28c874"/>
              </a:buClr>
              <a:buSzPct val="75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e47963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6571800" y="6357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744F-7F64-4AB3-B0C8-F6340EA5C3C8}" type="datetime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461880" y="6356520"/>
            <a:ext cx="2681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BCBD-8FD9-48AD-8A60-1F508619197D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210.117.202.146/app/wu/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제목 1" descr=""/>
          <p:cNvPicPr/>
          <p:nvPr/>
        </p:nvPicPr>
        <p:blipFill>
          <a:blip r:embed="rId1"/>
          <a:stretch/>
        </p:blipFill>
        <p:spPr>
          <a:xfrm>
            <a:off x="633240" y="2567160"/>
            <a:ext cx="7785360" cy="10112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000080" y="3928680"/>
            <a:ext cx="7129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회 참가 승인 방법</a:t>
            </a:r>
            <a:endParaRPr b="0" lang="en-US" sz="28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94" name="바닥글 개체 틀 3"/>
          <p:cNvSpPr/>
          <p:nvPr/>
        </p:nvSpPr>
        <p:spPr>
          <a:xfrm>
            <a:off x="7308720" y="6381720"/>
            <a:ext cx="1694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5" name="슬라이드 번호 개체 틀 4"/>
          <p:cNvSpPr/>
          <p:nvPr/>
        </p:nvSpPr>
        <p:spPr>
          <a:xfrm>
            <a:off x="34383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6F93-176C-4182-B39D-2207756877E3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터넷 익스플로어 주소창에</a:t>
            </a:r>
            <a:r>
              <a:rPr b="0" lang="en-US" sz="3200" spc="-1" strike="noStrike" u="sng">
                <a:solidFill>
                  <a:srgbClr val="64c143"/>
                </a:solidFill>
                <a:uFillTx/>
                <a:latin typeface="맑은 고딕"/>
                <a:hlinkClick r:id="rId2"/>
              </a:rPr>
              <a:t>http://210.117.202.146/app/wu/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입력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대한우슈쿵푸협회 홈페이지                                 대회참가신청 배너 클릭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298" name="슬라이드 번호 개체 틀 5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5BA3-FF76-4E28-93BD-B6948A1400E5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9" name="바닥글 개체 틀 6"/>
          <p:cNvSpPr/>
          <p:nvPr/>
        </p:nvSpPr>
        <p:spPr>
          <a:xfrm>
            <a:off x="7164360" y="6381720"/>
            <a:ext cx="165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01" name="슬라이드 번호 개체 틀 12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AF16-40F1-4EEF-8AD1-A225A791E314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2" name="바닥글 개체 틀 13"/>
          <p:cNvSpPr/>
          <p:nvPr/>
        </p:nvSpPr>
        <p:spPr>
          <a:xfrm>
            <a:off x="7236000" y="6381720"/>
            <a:ext cx="1657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3" name="직사각형 6"/>
          <p:cNvSpPr/>
          <p:nvPr/>
        </p:nvSpPr>
        <p:spPr>
          <a:xfrm>
            <a:off x="826920" y="1996920"/>
            <a:ext cx="6481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로그인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시도협회 체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⇒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모집이 진행중인 대회 검색 클릭 ⇒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해당 대회명 클릭 ⇒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참가신청 승인 클릭 ⇒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각 종별 클릭 ⇒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출전승인 체크 ⇒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선택종목 출전 승인 클릭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⇒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확인 클릭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승인되었습니다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05" name="슬라이드 번호 개체 틀 3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CE43-60ED-412D-B3AF-61AA23619E14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6" name="바닥글 개체 틀 4"/>
          <p:cNvSpPr/>
          <p:nvPr/>
        </p:nvSpPr>
        <p:spPr>
          <a:xfrm>
            <a:off x="7164360" y="6381720"/>
            <a:ext cx="1655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7" name="왼쪽 화살표 6"/>
          <p:cNvSpPr/>
          <p:nvPr/>
        </p:nvSpPr>
        <p:spPr>
          <a:xfrm>
            <a:off x="2556000" y="2060640"/>
            <a:ext cx="863640" cy="36036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08" name="직사각형 7" descr=""/>
          <p:cNvPicPr/>
          <p:nvPr/>
        </p:nvPicPr>
        <p:blipFill>
          <a:blip r:embed="rId2"/>
          <a:stretch/>
        </p:blipFill>
        <p:spPr>
          <a:xfrm>
            <a:off x="3425760" y="1968480"/>
            <a:ext cx="1500120" cy="615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"/>
          <p:cNvPicPr/>
          <p:nvPr/>
        </p:nvPicPr>
        <p:blipFill>
          <a:blip r:embed="rId3"/>
          <a:stretch/>
        </p:blipFill>
        <p:spPr>
          <a:xfrm>
            <a:off x="468360" y="1500120"/>
            <a:ext cx="7832520" cy="4808520"/>
          </a:xfrm>
          <a:prstGeom prst="rect">
            <a:avLst/>
          </a:prstGeom>
          <a:ln w="0">
            <a:noFill/>
          </a:ln>
        </p:spPr>
      </p:pic>
      <p:sp>
        <p:nvSpPr>
          <p:cNvPr id="310" name="위쪽 화살표 13"/>
          <p:cNvSpPr/>
          <p:nvPr/>
        </p:nvSpPr>
        <p:spPr>
          <a:xfrm>
            <a:off x="4716360" y="4005360"/>
            <a:ext cx="503280" cy="215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11" name="모서리가 둥근 직사각형 14" descr=""/>
          <p:cNvPicPr/>
          <p:nvPr/>
        </p:nvPicPr>
        <p:blipFill>
          <a:blip r:embed="rId4"/>
          <a:stretch/>
        </p:blipFill>
        <p:spPr>
          <a:xfrm>
            <a:off x="3187800" y="4273560"/>
            <a:ext cx="35607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13" name="바닥글 개체 틀 3"/>
          <p:cNvSpPr/>
          <p:nvPr/>
        </p:nvSpPr>
        <p:spPr>
          <a:xfrm>
            <a:off x="7236000" y="6492960"/>
            <a:ext cx="1733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4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ACE9-00E2-45FF-AE84-23F343825F56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7920000" cy="4895640"/>
          </a:xfrm>
          <a:prstGeom prst="rect">
            <a:avLst/>
          </a:prstGeom>
          <a:ln w="0">
            <a:noFill/>
          </a:ln>
        </p:spPr>
      </p:pic>
      <p:sp>
        <p:nvSpPr>
          <p:cNvPr id="316" name="왼쪽 화살표 6"/>
          <p:cNvSpPr/>
          <p:nvPr/>
        </p:nvSpPr>
        <p:spPr>
          <a:xfrm>
            <a:off x="4067280" y="2421000"/>
            <a:ext cx="504720" cy="287280"/>
          </a:xfrm>
          <a:prstGeom prst="leftArrow">
            <a:avLst>
              <a:gd name="adj1" fmla="val 50000"/>
              <a:gd name="adj2" fmla="val 49998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17" name="직사각형 7" descr=""/>
          <p:cNvPicPr/>
          <p:nvPr/>
        </p:nvPicPr>
        <p:blipFill>
          <a:blip r:embed="rId3"/>
          <a:stretch/>
        </p:blipFill>
        <p:spPr>
          <a:xfrm>
            <a:off x="4602240" y="2114640"/>
            <a:ext cx="167004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19" name="바닥글 개체 틀 3"/>
          <p:cNvSpPr/>
          <p:nvPr/>
        </p:nvSpPr>
        <p:spPr>
          <a:xfrm>
            <a:off x="7308720" y="649296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0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5235-894A-4B4E-BFDA-987EE771EC68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064360" cy="4881600"/>
          </a:xfrm>
          <a:prstGeom prst="rect">
            <a:avLst/>
          </a:prstGeom>
          <a:ln w="0">
            <a:noFill/>
          </a:ln>
        </p:spPr>
      </p:pic>
      <p:grpSp>
        <p:nvGrpSpPr>
          <p:cNvPr id="322" name="왼쪽 대괄호 6"/>
          <p:cNvGrpSpPr/>
          <p:nvPr/>
        </p:nvGrpSpPr>
        <p:grpSpPr>
          <a:xfrm>
            <a:off x="1206360" y="2786040"/>
            <a:ext cx="238320" cy="480960"/>
            <a:chOff x="1206360" y="2786040"/>
            <a:chExt cx="238320" cy="480960"/>
          </a:xfrm>
        </p:grpSpPr>
        <p:pic>
          <p:nvPicPr>
            <p:cNvPr id="323" name="왼쪽 대괄호 6" descr=""/>
            <p:cNvPicPr/>
            <p:nvPr/>
          </p:nvPicPr>
          <p:blipFill>
            <a:blip r:embed="rId3"/>
            <a:stretch/>
          </p:blipFill>
          <p:spPr>
            <a:xfrm>
              <a:off x="1206360" y="2786040"/>
              <a:ext cx="238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1281240" y="2927520"/>
              <a:ext cx="507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325" name="오른쪽 대괄호 7"/>
          <p:cNvGrpSpPr/>
          <p:nvPr/>
        </p:nvGrpSpPr>
        <p:grpSpPr>
          <a:xfrm>
            <a:off x="3170160" y="2871720"/>
            <a:ext cx="212760" cy="395280"/>
            <a:chOff x="3170160" y="2871720"/>
            <a:chExt cx="212760" cy="395280"/>
          </a:xfrm>
        </p:grpSpPr>
        <p:pic>
          <p:nvPicPr>
            <p:cNvPr id="326" name="오른쪽 대괄호 7" descr=""/>
            <p:cNvPicPr/>
            <p:nvPr/>
          </p:nvPicPr>
          <p:blipFill>
            <a:blip r:embed="rId4"/>
            <a:stretch/>
          </p:blipFill>
          <p:spPr>
            <a:xfrm>
              <a:off x="3170160" y="2871720"/>
              <a:ext cx="2127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203640" y="2925720"/>
              <a:ext cx="33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pic>
        <p:nvPicPr>
          <p:cNvPr id="328" name="구부러진 연결선 9" descr=""/>
          <p:cNvPicPr/>
          <p:nvPr/>
        </p:nvPicPr>
        <p:blipFill>
          <a:blip r:embed="rId5"/>
          <a:stretch/>
        </p:blipFill>
        <p:spPr>
          <a:xfrm>
            <a:off x="2316240" y="3103560"/>
            <a:ext cx="914400" cy="719280"/>
          </a:xfrm>
          <a:prstGeom prst="rect">
            <a:avLst/>
          </a:prstGeom>
          <a:ln w="0">
            <a:noFill/>
          </a:ln>
        </p:spPr>
      </p:pic>
      <p:pic>
        <p:nvPicPr>
          <p:cNvPr id="329" name="직사각형 10" descr=""/>
          <p:cNvPicPr/>
          <p:nvPr/>
        </p:nvPicPr>
        <p:blipFill>
          <a:blip r:embed="rId6"/>
          <a:stretch/>
        </p:blipFill>
        <p:spPr>
          <a:xfrm>
            <a:off x="3114720" y="3340080"/>
            <a:ext cx="21225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31" name="바닥글 개체 틀 3"/>
          <p:cNvSpPr/>
          <p:nvPr/>
        </p:nvSpPr>
        <p:spPr>
          <a:xfrm>
            <a:off x="7308720" y="649296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15AA-8A22-46BD-A7A1-BE707E8B3F40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33" name="Picture 8" descr=""/>
          <p:cNvPicPr/>
          <p:nvPr/>
        </p:nvPicPr>
        <p:blipFill>
          <a:blip r:embed="rId2"/>
          <a:stretch/>
        </p:blipFill>
        <p:spPr>
          <a:xfrm>
            <a:off x="539640" y="1500120"/>
            <a:ext cx="7761240" cy="4626000"/>
          </a:xfrm>
          <a:prstGeom prst="rect">
            <a:avLst/>
          </a:prstGeom>
          <a:ln w="0">
            <a:noFill/>
          </a:ln>
        </p:spPr>
      </p:pic>
      <p:sp>
        <p:nvSpPr>
          <p:cNvPr id="334" name="왼쪽 화살표 10"/>
          <p:cNvSpPr/>
          <p:nvPr/>
        </p:nvSpPr>
        <p:spPr>
          <a:xfrm>
            <a:off x="3276720" y="2276640"/>
            <a:ext cx="431640" cy="215640"/>
          </a:xfrm>
          <a:prstGeom prst="leftArrow">
            <a:avLst>
              <a:gd name="adj1" fmla="val 50000"/>
              <a:gd name="adj2" fmla="val 50042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35" name="모서리가 둥근 직사각형 11" descr=""/>
          <p:cNvPicPr/>
          <p:nvPr/>
        </p:nvPicPr>
        <p:blipFill>
          <a:blip r:embed="rId3"/>
          <a:stretch/>
        </p:blipFill>
        <p:spPr>
          <a:xfrm>
            <a:off x="3833640" y="2219400"/>
            <a:ext cx="23418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37" name="바닥글 개체 틀 3"/>
          <p:cNvSpPr/>
          <p:nvPr/>
        </p:nvSpPr>
        <p:spPr>
          <a:xfrm>
            <a:off x="7308720" y="649296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8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A55D-9DD2-4AFE-8B84-B69BA995E44F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39" name="Picture 9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7921800" cy="4810320"/>
          </a:xfrm>
          <a:prstGeom prst="rect">
            <a:avLst/>
          </a:prstGeom>
          <a:ln w="0">
            <a:noFill/>
          </a:ln>
        </p:spPr>
      </p:pic>
      <p:sp>
        <p:nvSpPr>
          <p:cNvPr id="340" name="아래로 구부러진 화살표 14"/>
          <p:cNvSpPr/>
          <p:nvPr/>
        </p:nvSpPr>
        <p:spPr>
          <a:xfrm>
            <a:off x="1476360" y="2421000"/>
            <a:ext cx="3382920" cy="360360"/>
          </a:xfrm>
          <a:custGeom>
            <a:avLst/>
            <a:gdLst>
              <a:gd name="textAreaLeft" fmla="*/ 811800 w 3382920"/>
              <a:gd name="textAreaRight" fmla="*/ 2526120 w 338292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69" hR="21600" stAng="10800000" swAng="5400000"/>
                <a:lnTo>
                  <a:pt x="10944" y="0"/>
                </a:lnTo>
                <a:arcTo wR="10369" hR="21600" stAng="-5400000" swAng="3703552"/>
                <a:lnTo>
                  <a:pt x="21271" y="16200"/>
                </a:lnTo>
                <a:lnTo>
                  <a:pt x="21026" y="21600"/>
                </a:lnTo>
                <a:lnTo>
                  <a:pt x="20122" y="16200"/>
                </a:lnTo>
                <a:lnTo>
                  <a:pt x="20409" y="16200"/>
                </a:lnTo>
                <a:arcTo wR="10369" hR="21600" stAng="-1696448" swAng="-3657780"/>
                <a:lnTo>
                  <a:pt x="10657" y="8"/>
                </a:lnTo>
                <a:arcTo wR="10369" hR="21600" stAng="-5445772" swAng="-5354228"/>
                <a:close/>
              </a:path>
              <a:path fill="darkenLess" w="21600" h="21600">
                <a:moveTo>
                  <a:pt x="0" y="21600"/>
                </a:moveTo>
                <a:arcTo wR="10369" hR="21600" stAng="10800000" swAng="5400000"/>
                <a:lnTo>
                  <a:pt x="10369" y="0"/>
                </a:lnTo>
                <a:arcTo wR="10369" hR="21600" stAng="-5400000" swAng="45772"/>
                <a:lnTo>
                  <a:pt x="10657" y="8"/>
                </a:lnTo>
                <a:arcTo wR="10369" hR="21600" stAng="-5445772" swAng="-5354228"/>
                <a:close/>
              </a:path>
            </a:pathLst>
          </a:cu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41" name="모서리가 둥근 직사각형 15" descr=""/>
          <p:cNvPicPr/>
          <p:nvPr/>
        </p:nvPicPr>
        <p:blipFill>
          <a:blip r:embed="rId3"/>
          <a:stretch/>
        </p:blipFill>
        <p:spPr>
          <a:xfrm>
            <a:off x="4767120" y="2762280"/>
            <a:ext cx="1621080" cy="541440"/>
          </a:xfrm>
          <a:prstGeom prst="rect">
            <a:avLst/>
          </a:prstGeom>
          <a:ln w="0">
            <a:noFill/>
          </a:ln>
        </p:spPr>
      </p:pic>
      <p:pic>
        <p:nvPicPr>
          <p:cNvPr id="342" name="직선 연결선 17" descr=""/>
          <p:cNvPicPr/>
          <p:nvPr/>
        </p:nvPicPr>
        <p:blipFill>
          <a:blip r:embed="rId4"/>
          <a:stretch/>
        </p:blipFill>
        <p:spPr>
          <a:xfrm>
            <a:off x="738360" y="3151080"/>
            <a:ext cx="1334880" cy="189000"/>
          </a:xfrm>
          <a:prstGeom prst="rect">
            <a:avLst/>
          </a:prstGeom>
          <a:ln w="0">
            <a:noFill/>
          </a:ln>
        </p:spPr>
      </p:pic>
      <p:pic>
        <p:nvPicPr>
          <p:cNvPr id="343" name="직선 연결선 20" descr=""/>
          <p:cNvPicPr/>
          <p:nvPr/>
        </p:nvPicPr>
        <p:blipFill>
          <a:blip r:embed="rId5"/>
          <a:stretch/>
        </p:blipFill>
        <p:spPr>
          <a:xfrm>
            <a:off x="2103480" y="3078000"/>
            <a:ext cx="2676600" cy="189000"/>
          </a:xfrm>
          <a:prstGeom prst="rect">
            <a:avLst/>
          </a:prstGeom>
          <a:ln w="0">
            <a:noFill/>
          </a:ln>
        </p:spPr>
      </p:pic>
      <p:pic>
        <p:nvPicPr>
          <p:cNvPr id="344" name="직선 연결선 22" descr=""/>
          <p:cNvPicPr/>
          <p:nvPr/>
        </p:nvPicPr>
        <p:blipFill>
          <a:blip r:embed="rId6"/>
          <a:stretch/>
        </p:blipFill>
        <p:spPr>
          <a:xfrm>
            <a:off x="2103480" y="3371760"/>
            <a:ext cx="2601720" cy="189000"/>
          </a:xfrm>
          <a:prstGeom prst="rect">
            <a:avLst/>
          </a:prstGeom>
          <a:ln w="0">
            <a:noFill/>
          </a:ln>
        </p:spPr>
      </p:pic>
      <p:pic>
        <p:nvPicPr>
          <p:cNvPr id="345" name="직선 연결선 24" descr=""/>
          <p:cNvPicPr/>
          <p:nvPr/>
        </p:nvPicPr>
        <p:blipFill>
          <a:blip r:embed="rId7"/>
          <a:stretch/>
        </p:blipFill>
        <p:spPr>
          <a:xfrm>
            <a:off x="2000160" y="2951280"/>
            <a:ext cx="255600" cy="309600"/>
          </a:xfrm>
          <a:prstGeom prst="rect">
            <a:avLst/>
          </a:prstGeom>
          <a:ln w="0">
            <a:noFill/>
          </a:ln>
        </p:spPr>
      </p:pic>
      <p:pic>
        <p:nvPicPr>
          <p:cNvPr id="346" name="모서리가 둥근 직사각형 25" descr=""/>
          <p:cNvPicPr/>
          <p:nvPr/>
        </p:nvPicPr>
        <p:blipFill>
          <a:blip r:embed="rId8"/>
          <a:stretch/>
        </p:blipFill>
        <p:spPr>
          <a:xfrm>
            <a:off x="590400" y="3481560"/>
            <a:ext cx="1409760" cy="541080"/>
          </a:xfrm>
          <a:prstGeom prst="rect">
            <a:avLst/>
          </a:prstGeom>
          <a:ln w="0">
            <a:noFill/>
          </a:ln>
        </p:spPr>
      </p:pic>
      <p:sp>
        <p:nvSpPr>
          <p:cNvPr id="347" name="위쪽 화살표 26"/>
          <p:cNvSpPr/>
          <p:nvPr/>
        </p:nvSpPr>
        <p:spPr>
          <a:xfrm>
            <a:off x="1116000" y="3284640"/>
            <a:ext cx="360360" cy="1443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e47963"/>
          </a:solidFill>
          <a:ln w="22320">
            <a:solidFill>
              <a:srgbClr val="a757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48" name="직선 연결선 28" descr=""/>
          <p:cNvPicPr/>
          <p:nvPr/>
        </p:nvPicPr>
        <p:blipFill>
          <a:blip r:embed="rId9"/>
          <a:stretch/>
        </p:blipFill>
        <p:spPr>
          <a:xfrm>
            <a:off x="2066760" y="2951280"/>
            <a:ext cx="255600" cy="309600"/>
          </a:xfrm>
          <a:prstGeom prst="rect">
            <a:avLst/>
          </a:prstGeom>
          <a:ln w="0">
            <a:noFill/>
          </a:ln>
        </p:spPr>
      </p:pic>
      <p:pic>
        <p:nvPicPr>
          <p:cNvPr id="349" name="꺾인 연결선 30" descr=""/>
          <p:cNvPicPr/>
          <p:nvPr/>
        </p:nvPicPr>
        <p:blipFill>
          <a:blip r:embed="rId10"/>
          <a:stretch/>
        </p:blipFill>
        <p:spPr>
          <a:xfrm>
            <a:off x="2084400" y="3193920"/>
            <a:ext cx="927000" cy="993960"/>
          </a:xfrm>
          <a:prstGeom prst="rect">
            <a:avLst/>
          </a:prstGeom>
          <a:ln w="0">
            <a:noFill/>
          </a:ln>
        </p:spPr>
      </p:pic>
      <p:pic>
        <p:nvPicPr>
          <p:cNvPr id="350" name="모서리가 둥근 직사각형 31" descr=""/>
          <p:cNvPicPr/>
          <p:nvPr/>
        </p:nvPicPr>
        <p:blipFill>
          <a:blip r:embed="rId11"/>
          <a:stretch/>
        </p:blipFill>
        <p:spPr>
          <a:xfrm>
            <a:off x="2103480" y="3986280"/>
            <a:ext cx="2127240" cy="609480"/>
          </a:xfrm>
          <a:prstGeom prst="rect">
            <a:avLst/>
          </a:prstGeom>
          <a:ln w="0">
            <a:noFill/>
          </a:ln>
        </p:spPr>
      </p:pic>
      <p:pic>
        <p:nvPicPr>
          <p:cNvPr id="351" name="꺾인 연결선 34" descr=""/>
          <p:cNvPicPr/>
          <p:nvPr/>
        </p:nvPicPr>
        <p:blipFill>
          <a:blip r:embed="rId12"/>
          <a:stretch/>
        </p:blipFill>
        <p:spPr>
          <a:xfrm>
            <a:off x="3981600" y="2249640"/>
            <a:ext cx="1260360" cy="585720"/>
          </a:xfrm>
          <a:prstGeom prst="rect">
            <a:avLst/>
          </a:prstGeom>
          <a:ln w="0">
            <a:noFill/>
          </a:ln>
        </p:spPr>
      </p:pic>
      <p:pic>
        <p:nvPicPr>
          <p:cNvPr id="352" name="모서리가 둥근 직사각형 35" descr=""/>
          <p:cNvPicPr/>
          <p:nvPr/>
        </p:nvPicPr>
        <p:blipFill>
          <a:blip r:embed="rId13"/>
          <a:stretch/>
        </p:blipFill>
        <p:spPr>
          <a:xfrm>
            <a:off x="5126040" y="2255760"/>
            <a:ext cx="27068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제목 1" descr=""/>
          <p:cNvPicPr/>
          <p:nvPr/>
        </p:nvPicPr>
        <p:blipFill>
          <a:blip r:embed="rId1"/>
          <a:stretch/>
        </p:blipFill>
        <p:spPr>
          <a:xfrm>
            <a:off x="237960" y="353880"/>
            <a:ext cx="7053480" cy="9385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8564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확인 클릭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승인되었습니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29f26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감사합니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맑은 고딕"/>
            </a:endParaRPr>
          </a:p>
        </p:txBody>
      </p:sp>
      <p:sp>
        <p:nvSpPr>
          <p:cNvPr id="355" name="바닥글 개체 틀 3"/>
          <p:cNvSpPr/>
          <p:nvPr/>
        </p:nvSpPr>
        <p:spPr>
          <a:xfrm>
            <a:off x="7308720" y="6308640"/>
            <a:ext cx="1660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사</a:t>
            </a:r>
            <a:r>
              <a:rPr b="0" lang="en-US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대한우슈쿵푸협회</a:t>
            </a:r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6" name="슬라이드 번호 개체 틀 4"/>
          <p:cNvSpPr/>
          <p:nvPr/>
        </p:nvSpPr>
        <p:spPr>
          <a:xfrm>
            <a:off x="414324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9F45-43A2-4A1A-9571-AD9505C9ACA5}" type="slidenum">
              <a:rPr b="0" lang="ko-KR" sz="1200" spc="-1" strike="noStrike">
                <a:solidFill>
                  <a:srgbClr val="ffffff"/>
                </a:solidFill>
                <a:latin typeface="Lucida Sans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03:56:16Z</dcterms:created>
  <dc:creator>user</dc:creator>
  <dc:description/>
  <dc:language>en-US</dc:language>
  <cp:lastModifiedBy>user</cp:lastModifiedBy>
  <dcterms:modified xsi:type="dcterms:W3CDTF">2011-02-21T06:35:56Z</dcterms:modified>
  <cp:revision>32</cp:revision>
  <dc:subject/>
  <dc:title>대회참가신청방법</dc:title>
</cp:coreProperties>
</file>